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2DF99-B257-4CF2-B404-1959ED51E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1960D-D65C-482B-B84C-EFB24CEDE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5CE27-5188-4CDE-8456-33E5D841E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CD6ED-1B87-491B-9D4D-CCE5C65F8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47624-3E21-4366-BB81-7DF817B84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7FED0-3DAC-4E44-9AEA-9194609F6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8D4B2-4793-43DF-BC8A-0C7866338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7C7A8-ABE0-4771-9B97-F665CEE47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3DFC8-CBF9-471E-A223-1A876C148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7892B-0833-4F48-A8C9-260766F4D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71D51-0A9E-462B-86F8-BE3C1EFCC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7F619-EF94-4B89-BE13-421C9B002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EA378-833F-4F9C-BDD8-49BE0D99E978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1700280"/>
            <a:ext cx="691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Εισαγωγικές έννοιες πληροφορικής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χρήση Η/Υ και γραφικά περιβάλλοντα επικοινωνία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Δεδομένα και Πληροφορίε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33520" y="2924280"/>
            <a:ext cx="8076960" cy="1009080"/>
            <a:chOff x="533520" y="2924280"/>
            <a:chExt cx="8076960" cy="1009080"/>
          </a:xfrm>
        </p:grpSpPr>
        <p:sp>
          <p:nvSpPr>
            <p:cNvPr id="44" name=""/>
            <p:cNvSpPr/>
            <p:nvPr/>
          </p:nvSpPr>
          <p:spPr>
            <a:xfrm>
              <a:off x="533520" y="2924280"/>
              <a:ext cx="1904760" cy="99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ΔΕΔΟΜΕΝ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ΙΣ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42900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πεξεργασί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Arial"/>
                </a:rPr>
                <a:t>ΠΛΗΡΟΦΟΡΙΕΣ</a:t>
              </a:r>
              <a:r>
                <a:rPr b="1" lang="el-G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l-GR" sz="2000" spc="-1" strike="noStrike">
                  <a:solidFill>
                    <a:srgbClr val="ffffff"/>
                  </a:solidFill>
                  <a:latin typeface="Arial"/>
                </a:rPr>
                <a:t>ΕΞ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1460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3868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9T17:13:45Z</dcterms:created>
  <dc:creator>..</dc:creator>
  <dc:description/>
  <dc:language>en-US</dc:language>
  <cp:lastModifiedBy>Winuser</cp:lastModifiedBy>
  <dcterms:modified xsi:type="dcterms:W3CDTF">2005-01-18T17:23:24Z</dcterms:modified>
  <cp:revision>13</cp:revision>
  <dc:subject/>
  <dc:title>Εισαγωγικές έννοιες πληροφορικής, χρήση Η/Υ και γραφικά περιβάλλοντα επικοινωνίας</dc:title>
</cp:coreProperties>
</file>