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9C7C-C9B2-445E-953D-7DD704905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9672-B42B-49DF-B496-3F84337A1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BB28-7E7E-4F84-B36D-BB19D7ED9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D704-99DB-4B7C-8980-57F69FAB8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E8EE-E3A1-4173-AD47-394293F97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083F-2172-4BC9-8612-9366A420E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AB97-6CC7-420C-9881-1A9CE1A30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54D0-2596-4780-9DA8-19AE789C0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20C8-6DD1-4173-92F1-67BDE1F48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C40D-339D-4007-BA1C-B3E614B96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7A06-3BCB-405A-9715-ACB66B6EC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7954-1CAE-4731-841E-121B1A403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619B1-D1FD-4E32-A9F0-2B4BE147B9A2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ΕΚΠΑΙΔΕΥΤΙΚΟ ΛΟΓΙΣΜΙΚ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32000" y="1915920"/>
            <a:ext cx="6400800" cy="12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Πρώτη γνωριμία με διαθέσιμο εκπαιδευτικό λογισμικ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76360" y="3573360"/>
            <a:ext cx="6400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… </a:t>
            </a:r>
            <a:r>
              <a:rPr b="1" lang="el-GR" sz="4400" spc="-1" strike="noStrike">
                <a:solidFill>
                  <a:srgbClr val="333399"/>
                </a:solidFill>
                <a:latin typeface="Arial"/>
              </a:rPr>
              <a:t>Διαπιστώσεις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ραγδαία εξέλιξη της Τεχνολογίας επιδρά στην κοινωνική πραγματικότητα , άρα και στην Εκπαίδευ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τοιχειοθετείται η ανάγκη  επαναπροσδιορισμού του παραδοσιακού μοντέλου διδασκαλίας με τη δημιουργική αξιοποίηση των δυνατοτήτων των Νέων Τεχνολογιώ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74072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Σύμφωνα με διεθνείς έρευνες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616572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1816200"/>
            <a:ext cx="8434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Η χρήση των Νέων Τεχνολογιών στην εκπαίδευση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Παρέχει στο μαθητή πρόσβαση σε πλούσιες πηγές πληροφοριών και εκπαιδευτικού υλικο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Διεγείρει το ενδιαφέρον του μαθητ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Ενισχύει την αυτοπεποίθηση του μαθητή στη διαδικασία μάθηση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ινητοποιεί τους αδύνατους μαθητέ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101080" y="6308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0560" y="188640"/>
            <a:ext cx="676908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Οι έρευνες όμως δείχνουν επίσης ότ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Οι Νέες Τεχνολογίες συμβάλλουν πραγματικά στη μάθηση μόνο όταν χρησιμοποιούνται μέσα απ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τάλληλα σχεδιασμένες δραστηριότητε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αι με σαφώ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θορισμένους στόχου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6237360"/>
            <a:ext cx="792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ΒΑΣΙΚΕΣ ΔΕΞΙΟΤΗΤΕ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5013000"/>
            <a:ext cx="403848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Και τώρα τι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191628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27280" y="27082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27640" y="321300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56360" y="35002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76360" y="407664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721080"/>
            <a:ext cx="806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17200" y="345960"/>
            <a:ext cx="785988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Είδη Εκπαιδευτικού Λογισμικο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280" y="1196640"/>
            <a:ext cx="789444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Μεταξύ άλλων 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κγύμν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Σύνολο δοκιμασιών για εξάσκηση και αξιολόγηση του μαθητ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αρουσί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Παρουσίαση της διδακτέας ύλης με χρήση πολυμέσ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ροσομοίω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Δημιουργί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αναπαράστασης ή μοντέλου ενός πραγματικού φαινομένου στην οθόν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πίλυσης προβλήματο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Επίλυση προβλήματος με δυνατότητα παραμετροποίησής του και αναπαράστασης της λύσ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φαρμογή εικονικής πραγματικότητ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κπαιδευτικά παιχνίδι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5T12:54:00Z</dcterms:modified>
  <cp:revision>75</cp:revision>
  <dc:subject/>
  <dc:title>Τίτλος ενότητας</dc:title>
</cp:coreProperties>
</file>