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B34FE-5DA1-4F76-A7AC-B929382C6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C1B62-B331-4590-B88E-470B272F0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BA5CE-4060-4A8A-8DC7-56EE019EF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2422F-BBEB-47BA-8CD4-4563F020F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1AB7E-68DF-4D4A-B540-71C25F258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648E1-494E-4D1C-A7A5-92C4AE5EF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AEC91-CE2C-4B15-998C-6B8BCF2B1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1EF1F-2CDC-44B2-A3D8-8246A67EB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6F144-FE3E-4A4E-A486-FED04155C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F741D-5AA6-4913-8C98-BBD9B11E7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83501-43A9-4BD5-A50A-B3D419798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90443-87A5-42B1-AFD8-B783940BB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5223E-553A-4D03-98D0-68346D8D03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052640"/>
            <a:ext cx="7705800" cy="468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9T15:18:39Z</dcterms:modified>
  <cp:revision>5</cp:revision>
  <dc:subject/>
  <dc:title>Slide 1</dc:title>
</cp:coreProperties>
</file>