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90727-A227-40AB-B4DF-4FB665FB1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BCFF9-BFC4-4762-90C8-9422F127D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C82FE-2326-4071-B3FF-BEDCFA14B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CD5B6-5F28-4866-B845-5EAC719BD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8ADF6-045D-4443-957D-6B4A9892E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6FC0D-497F-4098-A00C-9E0C64327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62119-32B6-4D48-A504-6F263DBE7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1AD0E-89C4-4ADB-BB57-903B6A935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CEDC5-8CED-4A65-A34B-943FBE025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5884A-4C29-41EF-88DF-FBFBCD41B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BEB3B-44E4-4725-A012-EA056C5AE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9354A-11B3-4AD0-A962-4EA0ECBB3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81687-8831-428C-AD08-14A7A982C238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1700280"/>
            <a:ext cx="691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Εισαγωγικές έννοιες πληροφορικής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χρήση Η/Υ και γραφικά περιβάλλοντα επικοινωνία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Δεδομένα και Πληροφορίε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33520" y="2924280"/>
            <a:ext cx="8076960" cy="1009080"/>
            <a:chOff x="533520" y="2924280"/>
            <a:chExt cx="8076960" cy="1009080"/>
          </a:xfrm>
        </p:grpSpPr>
        <p:sp>
          <p:nvSpPr>
            <p:cNvPr id="44" name=""/>
            <p:cNvSpPr/>
            <p:nvPr/>
          </p:nvSpPr>
          <p:spPr>
            <a:xfrm>
              <a:off x="533520" y="2924280"/>
              <a:ext cx="1904760" cy="99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ΔΕΔΟΜΕΝ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ΙΣ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42900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πεξεργασί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Arial"/>
                </a:rPr>
                <a:t>ΠΛΗΡΟΦΟΡΙΕΣ</a:t>
              </a:r>
              <a:r>
                <a:rPr b="1" lang="el-G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l-GR" sz="2000" spc="-1" strike="noStrike">
                  <a:solidFill>
                    <a:srgbClr val="ffffff"/>
                  </a:solidFill>
                  <a:latin typeface="Arial"/>
                </a:rPr>
                <a:t>ΕΞ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1460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3868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9T17:13:45Z</dcterms:created>
  <dc:creator>..</dc:creator>
  <dc:description/>
  <dc:language>en-US</dc:language>
  <cp:lastModifiedBy>Winuser</cp:lastModifiedBy>
  <dcterms:modified xsi:type="dcterms:W3CDTF">2005-01-18T17:23:24Z</dcterms:modified>
  <cp:revision>13</cp:revision>
  <dc:subject/>
  <dc:title>Εισαγωγικές έννοιες πληροφορικής, χρήση Η/Υ και γραφικά περιβάλλοντα επικοινωνίας</dc:title>
</cp:coreProperties>
</file>