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B1102-6D1B-43CE-8457-67F183955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74F9D-5185-4602-A791-2E870642C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49D8E-800B-440F-AB57-6CF9FFD0B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EE9E2-4446-46A4-9DFA-4ABB0807B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97ED3-FBBB-4823-8873-0F9B7E98F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11391-7767-418D-842D-C9754E2E5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72652-48B6-415C-B886-94A402A7C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6CB4E-8494-46F0-ABDE-43189E12D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867CC-0BD1-4063-94B7-1241AF6D4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B454A-77D4-4862-8215-50FBA666D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B0F62-43B6-4983-9AFF-F8EA86768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A8F92-CBBB-4CED-A175-D877008D3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4920"/>
            <a:ext cx="3248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DC840-E834-482D-87DB-940B744EC028}" type="slidenum">
              <a:rPr b="1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40000" cy="2279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Διαφάνει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60B02-8A7E-4C59-A4FF-131EF798D84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13:05:45Z</dcterms:created>
  <dc:creator>christak</dc:creator>
  <dc:description/>
  <dc:language>en-US</dc:language>
  <cp:lastModifiedBy>1</cp:lastModifiedBy>
  <dcterms:modified xsi:type="dcterms:W3CDTF">2005-01-13T13:41:08Z</dcterms:modified>
  <cp:revision>3</cp:revision>
  <dc:subject/>
  <dc:title>Slide 1</dc:title>
</cp:coreProperties>
</file>