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9C94-779F-41AD-8398-2B14F4290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8106-446E-4E4C-9303-9C6F14855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940F-A272-43C7-B279-0DDC1472C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DF31-61EF-4CD3-8E0E-37F044B56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6BE1-64C2-4025-B2FA-B34CD3BA0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5BC9-1B67-4AEE-A5E7-E2226E1D2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8142-2EAE-4EE8-A6F3-82DCC8476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684B-D56B-46F5-9D73-CBF3215B5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0181-9994-4F4E-81C2-F89C5C39F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FDCD-DAB9-4C6E-99D4-AC7CDC92D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3005-D131-4D5B-94CD-F64FDE879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4E2B-EE4F-4DA3-AA7A-B346CEEC6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49C0E-8A50-4BEA-9C83-DC138B8B0E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9840"/>
                            </p:stCondLst>
                            <p:childTnLst>
                              <p:par>
                                <p:cTn id="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3:58:41Z</dcterms:modified>
  <cp:revision>82</cp:revision>
  <dc:subject/>
  <dc:title>Τίτλος ενότητας</dc:title>
</cp:coreProperties>
</file>