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FF05-1A67-4E51-A083-A4BA81E1A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9FA1-434D-409C-83CA-3CBCD6A58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370F-2EAC-4272-84F2-599034C19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3316-E9B3-4BF5-9E6D-2961B2C34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2F7F-248F-4E95-960E-0F0E90252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8C2F-1EBF-4701-B756-90AE52B4C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73C6-6E83-468C-AD86-0E25EF1DF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DADF-ADF7-49B1-8BA9-D9B2A35CE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DDD2-39F1-4AA9-9729-B9C725E77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40FC-57BB-4F74-8799-1D923FACD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E915-AE76-46F7-9405-3EA86AD5F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BD65-190B-43A1-A84F-40F1F0E42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8E32F-C280-4002-B564-25AECC083718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39Z</dcterms:modified>
  <cp:revision>3</cp:revision>
  <dc:subject/>
  <dc:title>Slide 1</dc:title>
</cp:coreProperties>
</file>