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3E5EF-56E3-41A1-94F9-C57D0C1D9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30539-BCF6-4111-8228-E897E71C3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CC8CC-9984-4F29-B098-F87DFAA9A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B84D0-C0F6-4826-81C6-C1A94ED29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33B26-037C-44BC-B1BC-BD3018A00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52308-DA50-46D1-896F-683D65C92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194AD-9D09-4F3C-B756-3EF3976F9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23B85-9017-4A1F-8B9B-3E782FC9A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F8382-6BDE-42F8-8314-E0AA01D19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7C2FA-9F47-43D1-82FF-F1A4C0823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EBE57-064A-4411-8B4E-818CD17D7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1654B-3792-4437-82D9-13DA03774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4920"/>
            <a:ext cx="3248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6246B-1379-450A-984D-86DD218901AA}" type="slidenum">
              <a:rPr b="1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40000" cy="2279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Διαφάνει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E6F92-4039-4524-939A-420563AAACC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13:05:45Z</dcterms:created>
  <dc:creator>christak</dc:creator>
  <dc:description/>
  <dc:language>en-US</dc:language>
  <cp:lastModifiedBy>1</cp:lastModifiedBy>
  <dcterms:modified xsi:type="dcterms:W3CDTF">2005-01-13T13:41:08Z</dcterms:modified>
  <cp:revision>3</cp:revision>
  <dc:subject/>
  <dc:title>Slide 1</dc:title>
</cp:coreProperties>
</file>