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1C2A5-B0E5-4B86-91FE-D81B19015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35C01-5C66-4872-97C3-9D81925C2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5ACEC-20EC-42A9-85CF-E7005E0DD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F6AC2-451F-4BAD-834D-203FEB383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77EF9-C7AC-43E2-B6FD-39CC1D4C0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33B7F-56B2-44F6-BCF5-D53D1756D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44191-7F75-4883-9CD0-37835BC9A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D5CAF-52A2-4755-845F-C22E495D6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68FCC-91A2-4E57-B13E-3EDC4B423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83DC4-F602-4A35-A6E7-7A963449B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99077-0E4A-4479-9B33-7451345DD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94357-7F92-4690-8E7E-6677F11D7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4920"/>
            <a:ext cx="3248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520EE-A5C0-489E-BD49-0F5D079EAB49}" type="slidenum">
              <a:rPr b="1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40000" cy="2279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411280" y="3068640"/>
            <a:ext cx="43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ΕΚΠΑΙΔΕΥΤΙΚΟ ΛΟΓΙΣΜΙΚ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Διαφάνει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D5545-45C9-4458-99AE-303CE3C27A6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13:05:45Z</dcterms:created>
  <dc:creator>christak</dc:creator>
  <dc:description/>
  <dc:language>en-US</dc:language>
  <cp:lastModifiedBy>1</cp:lastModifiedBy>
  <dcterms:modified xsi:type="dcterms:W3CDTF">2005-01-13T13:41:22Z</dcterms:modified>
  <cp:revision>4</cp:revision>
  <dc:subject/>
  <dc:title>Slide 1</dc:title>
</cp:coreProperties>
</file>