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0F915-6BED-4420-9FF4-1C254FA29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418F4-0C11-4D52-8B1A-82352981C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3DAE8-C111-4648-9AF6-2BDFA297B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53C49-FE69-4902-9ECC-ADB9F974A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80AA4-9F2F-42D8-9937-3032AF0D6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C2A3D-7F01-4954-843A-F39790C43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EAAEF-BFB4-40F0-B916-58011CF2E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41090-8F6E-49C2-98A3-F0D77BFAB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A273C-1B44-4D52-83CD-288AABEFC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6914B-FEF9-4DD6-83A9-3CEB080C5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49E88-1E1E-4AEC-8D84-2D2BD4CDD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0D689-4904-49D4-ADD2-34C842271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8CB02-0EAE-411C-B43E-4A2CE16CA8C1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12:17Z</dcterms:modified>
  <cp:revision>2</cp:revision>
  <dc:subject/>
  <dc:title>Slide 1</dc:title>
</cp:coreProperties>
</file>