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A6285-1ED9-4F1D-BFA8-10DF93932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81DDC-78CC-4AB2-B25D-CC074AD1C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95CDB-2036-43E1-901B-F9936C90C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34B6D-7FDB-4B9E-923B-50AD8ABD8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29350-335D-423D-89D2-79335EDCC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51200-45AB-41C5-98B4-B8D18C83C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2D76B-B52F-46C8-9A9D-B66038C75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8D561-10CA-4990-9709-0C1973FB7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6AFC1-1DFA-4A02-BABB-14884A6CF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4CC98-4E99-42FC-8766-3B5278892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23EA8-7168-481B-998A-AC07E5F13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406E3-42EB-40B5-BB8E-D98E2DC95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4920"/>
            <a:ext cx="3248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A4F48-8FE3-4095-AAF0-9CB472DFC92C}" type="slidenum">
              <a:rPr b="1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40000" cy="2279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411280" y="3068640"/>
            <a:ext cx="43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ΕΚΠΑΙΔΕΥΤΙΚΟ ΛΟΓΙΣΜΙΚ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Διαφάνει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18104-8549-4F06-9AEE-C73C049FDE2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13:05:45Z</dcterms:created>
  <dc:creator>christak</dc:creator>
  <dc:description/>
  <dc:language>en-US</dc:language>
  <cp:lastModifiedBy>1</cp:lastModifiedBy>
  <dcterms:modified xsi:type="dcterms:W3CDTF">2005-01-13T13:41:22Z</dcterms:modified>
  <cp:revision>4</cp:revision>
  <dc:subject/>
  <dc:title>Slide 1</dc:title>
</cp:coreProperties>
</file>