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8BB6-54FD-46BA-8317-1B95E3D8B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0FE2-531C-4F69-AF32-A68D39D27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8933-5293-4DA1-A1E4-362D6D7A3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2BD4-AE10-4189-968D-DAEEF57E2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385E-0D27-42BD-BB17-34A6E572F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B99D-DBAF-459B-B3B9-CEDD01E34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0755-2642-4213-8741-B08FB6832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8EF7-0B87-41C7-80CD-4EA05D4FB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8A45-7781-4557-A6A0-5028F5943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78C1-FF45-4186-9231-7542BE77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9CDC-D940-4C83-83ED-5AA2447A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C843-8BEB-4F16-9BD2-7A65FF6F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4343A-3BEB-42A9-8C30-A480EFC9B761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19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ιώνα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ίχα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ίνε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υρώπ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ολλέ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λλαγές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ιστήμης,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οινωνία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δηγού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αθμιαία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νατροπ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θιερωμέν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ξιών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Τίτλος 1" descr=""/>
          <p:cNvPicPr/>
          <p:nvPr/>
        </p:nvPicPr>
        <p:blipFill>
          <a:blip r:embed="rId1"/>
          <a:stretch/>
        </p:blipFill>
        <p:spPr>
          <a:xfrm>
            <a:off x="469800" y="8568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νευμ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αστ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ινήματα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Διαφωτισμός,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αλλ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Ρομαντισμός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ιομηχαν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Ρωσ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Η παραδοσιακ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οίη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νταποκρι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την παλι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άξ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ραγμάτων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τ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αραπάν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λλαγέ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ενεργούν σ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ρόπο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ποί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άνθρωπο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ισθα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χέ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κόσμ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ηρεάζου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ηλαδή την ευαισθησία το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 να εκφράσει τη «διάλυση» ευαισθησίας του ανθρώπου, η ποίηση έπρεπε να βρει καινούριους εκφραστικούς τρόπου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 όνομα: άγνωστο, παρουσιαζόταν πρώτη φορά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ναι διφορούμενος: μπορεί να είναι ένας όρος της στιχουργικής,αλλὰ μπορεί και να σημαίνει μια βαθύτερη αλλαγή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χε ασφαλώς το δεύτερο νόημα. Με τη λιγοσέλιδη ποιητικὴ συλλογή ερχόταν στη νέα ελληνική ποίηση μία αναπάντεχη αλλαγή, μια πραγματική «στροφή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Τίτλος 1" descr=""/>
          <p:cNvPicPr/>
          <p:nvPr/>
        </p:nvPicPr>
        <p:blipFill>
          <a:blip r:embed="rId1"/>
          <a:stretch/>
        </p:blipFill>
        <p:spPr>
          <a:xfrm>
            <a:off x="414360" y="96840"/>
            <a:ext cx="840096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09:13:27Z</dcterms:created>
  <dc:creator>ΓΙΩΡΓΟΣ   ΔΕΣΠΟΙΝΑ</dc:creator>
  <dc:description/>
  <dc:language>en-US</dc:language>
  <cp:lastModifiedBy>giorgos</cp:lastModifiedBy>
  <dcterms:modified xsi:type="dcterms:W3CDTF">2012-03-23T09:53:23Z</dcterms:modified>
  <cp:revision>11</cp:revision>
  <dc:subject/>
  <dc:title>ΗΓενιάτου’30 Aπό το19ο αιώνα, είχαν γίνει στην Ευρώπη πολλέςαλλαγές,που έχουν σχέση με την εξέλιξη της επιστήμης και τη δομή της κοινωνικής οργάνωσης και οδηγούν βαθμιαία στην ανατροπή των καθιερωμένων αξιών.</dc:title>
</cp:coreProperties>
</file>