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1802-73FD-4741-BA12-51F61300B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AA3C-6B5B-4FE4-B03E-7C994E9AC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CA41-34C9-4083-BB3E-59B9E9C24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0D42-6D76-4A52-8395-810C4A965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FC6F-9163-4383-A064-EB1351F15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998E-149C-4750-88E5-04EB32722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38BC-8678-488E-AC6D-CCF035335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A314-7640-4BD6-810F-09D309426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49F3-33F3-49AB-8D90-B9399BFA8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0EB8-BE15-48B8-9F90-12C533009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04E3-7E6E-4559-84AD-826C1376C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EDDF-C80F-4DFF-B0BF-D6EE209D5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0472C-D8E1-4D65-A7D1-DCEBBF12491D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53:53Z</dcterms:modified>
  <cp:revision>3</cp:revision>
  <dc:subject/>
  <dc:title>Slide 1</dc:title>
</cp:coreProperties>
</file>