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B8096-58B0-4D8A-A1AD-BD5B764C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741-B844-44FC-9160-39022B12A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AE6F-4DEA-4FB0-BB1F-FD6EE5741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1DD9-3A0F-44D3-898A-1782CB13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00847-F146-489A-883B-E1ED9037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50716-B0ED-47E9-B2C7-AC1067BF5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2F81-F058-458E-B6E0-9C90D2E74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5BE2-FC6C-4CA9-BD81-ECD241653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55640" y="188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97D1-7220-4763-B751-72985F27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8C58-FB9B-45A4-94AE-F9CEAA8CC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9512-F7D9-4159-96ED-B6E5204C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341-1FA5-4528-B242-7F98797D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48BA-0F39-49F0-9959-7ACCD332F8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635280" y="260280"/>
            <a:ext cx="511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3995640" y="404640"/>
            <a:ext cx="4824360" cy="792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Εκπαιδευτικό λογισμικό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009960" y="4876920"/>
          <a:ext cx="3124080" cy="16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09960" y="4876920"/>
                    <a:ext cx="312408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539640" y="1195920"/>
            <a:ext cx="8064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Εκπαιδευτικό λογισμικό είναι το προϊόν της τεχνολογίας μέσω του οποίου πραγματοποιείται η διδασκαλία ενός ή περισσοτέρων γνωστικών αντικειμένων ακολουθώντας συγκεκριμένη παιδαγωγική φιλοσοφία και εκπαιδευτική στρατηγική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4T09:50:53Z</dcterms:created>
  <dc:creator>tskiniot</dc:creator>
  <dc:description/>
  <dc:language>en-US</dc:language>
  <cp:lastModifiedBy>1</cp:lastModifiedBy>
  <dcterms:modified xsi:type="dcterms:W3CDTF">2005-01-13T14:06:40Z</dcterms:modified>
  <cp:revision>80</cp:revision>
  <dc:subject/>
  <dc:title>Τίτλος ενότητας</dc:title>
</cp:coreProperties>
</file>