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D5635-B40D-41B5-B987-07A4F2C4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9C35-4F2F-49AF-A48F-ADD34C7D6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A5CD-3532-4F12-9613-09E590B33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AFA-DED4-46E7-A07D-3D8439880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2E35-8FA1-4387-AFA7-367A58B7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6E9C-AB44-4026-BA79-E040C37BD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C7DE-2CE7-4704-8FC2-4BDFFB45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6327-EE4E-47A8-A4F2-7C09DF316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A3C1E-3A43-4061-AF79-8B8CC029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C6D3-5E41-4FA8-BD50-EFD891738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967F-27B5-487D-91E7-41EACA5DD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B227-151F-4365-9165-C1BEA05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73F4-8836-415B-A076-CED39EC9C999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19700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1T13:53:53Z</dcterms:modified>
  <cp:revision>3</cp:revision>
  <dc:subject/>
  <dc:title>Slide 1</dc:title>
</cp:coreProperties>
</file>