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2BAFA-C42A-4872-A239-53112E438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B8B8-BEA7-4107-B470-542330A48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130-FB0B-4819-B4A6-039ADBA780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F32C-459A-45EB-AC96-711FD7AAB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AB51-6CBC-43F1-96FC-1EBCF8366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8623-C258-4C4B-B056-4AA1712A7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3791-3048-4059-9038-804D1CB31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E2A-476A-47F2-B097-0E423820D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6DED-1DAD-43AF-A165-50723A160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75DDA-39EE-4C79-ADC8-B65D427FE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A9711-5124-48AC-80A4-5C69AC11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34687-AA8F-43C6-80FA-E4F53CA5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098C-C376-4790-9262-FE4BC67BB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26920" y="1052640"/>
            <a:ext cx="7705800" cy="46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Το Εκπαιδευτικό Λογισμικό που παρουσιάζεται έχει παραχθεί για λογαριασμό του ΥΠΕΠΘ στο πλαίσιο του ΕΠΕΑΕΚ Ι από ενώσεις φορέων (Πανεπιστήμια, Εταιρείες, Ινστιτούτα) με ενδιάμεσο φορέα εκτέλεσης το ΕΑΙΤ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3T14:13:13Z</dcterms:created>
  <dc:creator>christak</dc:creator>
  <dc:description/>
  <dc:language>en-US</dc:language>
  <cp:lastModifiedBy>christak</cp:lastModifiedBy>
  <dcterms:modified xsi:type="dcterms:W3CDTF">2003-09-19T15:18:39Z</dcterms:modified>
  <cp:revision>5</cp:revision>
  <dc:subject/>
  <dc:title>Slide 1</dc:title>
</cp:coreProperties>
</file>