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9954-594E-4B4E-BD4E-5FA9F2B58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E6F1-4B1D-4DA1-9903-593A0142B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9929-27D8-42C6-B9E1-EDBC45E0D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8817-86E5-4A29-AB69-FD38505E4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976F-ECBE-4EDD-9E34-B6368A204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E16A-A424-4E8D-89EF-CA563BA5D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9BC7-E652-4EE5-B4F6-55F5928C3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B9F4A-C8F6-4CC7-8D77-D5A1E1213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E13C-0CBC-405A-B4AB-11AB0CFF0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BADD-0528-43C4-B00B-A9BD47CB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472D-3F91-498B-B283-F98E978B0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3BA7-6E5F-429B-90FF-DFEC7E31B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FAD2B-DFC5-4DCC-B72F-0BECFC8D9A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840"/>
                            </p:stCondLst>
                            <p:childTnLst>
                              <p:par>
                                <p:cTn id="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4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3:58:41Z</dcterms:modified>
  <cp:revision>82</cp:revision>
  <dc:subject/>
  <dc:title>Τίτλος ενότητας</dc:title>
</cp:coreProperties>
</file>