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6D4D-1969-4FF7-AC51-9AB7BAE18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58DC-61D7-4547-9448-4BD124A3F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1292-1D55-4229-B6F8-C761ECF2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FAC-784A-4E4B-9300-1D1DF4FE0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D9FD-F6E2-4A7E-9882-426358BF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4CA0-A04D-47A4-8203-858E9CCD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2CF-0544-4E73-B6B7-4A0104B2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0925-B515-4E04-9F11-B28D03C18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BAA7-03CF-46B1-A73D-788BC3174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D4A5-A8F4-4F04-8ED2-357DF35C5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100F-BF0C-4F27-A5A8-03D3441D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48B67-0A54-43D4-83F9-3692D2AB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22234-8D30-4436-89B2-DAF8261066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314880" y="4724280"/>
          <a:ext cx="2514600" cy="134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14880" y="4724280"/>
                    <a:ext cx="2514600" cy="134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21824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96840" y="304560"/>
            <a:ext cx="7150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Πλεονεκτήματα αξιοποίησης εκπαιδευτικού λογισμικού 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54200"/>
            <a:ext cx="82296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άγει την εξατομικευμένη και ανακαλυπτική μάθ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Συμβάλλει στην αύξηση της ενεργητικής συμμετοχής των μαθητών στη μαθησιακή διαδικ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00"/>
                </a:solidFill>
                <a:latin typeface="Arial"/>
              </a:rPr>
              <a:t>Προωθεί την ομαδική εργα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50880" y="304560"/>
            <a:ext cx="784224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Ποιο ρόλο επιφυλάσσει το εκπαιδευτικό λογισμικό για τον εκπαιδευτικό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1880" y="2247840"/>
            <a:ext cx="82202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Μήπως η υιοθέτηση του εκπαιδευτικού λογισμικού σημαίνει το τέλος της παραδοσιακής τάξης και του παραδοσιακού τρόπου διδασκαλίας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020000" y="4365720"/>
            <a:ext cx="1698480" cy="193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77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770" fill="hold"/>
                                        <p:tgtEl>
                                          <p:spTgt spid="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4" dur="77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500"/>
                            </p:stCondLst>
                            <p:childTnLst>
                              <p:par>
                                <p:cTn id="6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188640"/>
            <a:ext cx="8304480" cy="163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Με τη χρήση εκπαιδευτικού λογισμικού ο ρόλος του δασκάλου  δεν αποδυναμώνεται αλλά αντίθετα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5200" y="2361960"/>
            <a:ext cx="8013600" cy="273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Γίνεται πιο σύνθετος και πιο απαιτητικός καθώς από 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παρουσια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πληροφορίας περνάει στο ρόλο του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συντονιστή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της μαθησιακής διαδικα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1ο ΓΥΜΝΑΣΙΟ ΚΑΣΤΟΡΙΑΣ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8T16:54:26Z</dcterms:modified>
  <cp:revision>79</cp:revision>
  <dc:subject/>
  <dc:title>Τίτλος ενότητας</dc:title>
</cp:coreProperties>
</file>