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44DD-5D47-4804-87BD-8D39BABE4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C21C-FA7D-4ECC-9CB5-E0439FB3C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CF1F-6406-44B2-B5D9-595B9E161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2649-DBBE-430D-A843-4AF2B5B04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C5AC-ED79-411E-96D9-C2CCA450A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E78F-A1F3-4103-8F4B-CCF12B231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8002-60F7-4519-880F-CB2B65AEB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311F-18FC-43D4-9097-FC1D11C8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92ED-A86F-445C-AA14-C056A7D2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E21-0633-40A1-9007-4550B56EF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8775-6C99-4BD3-9490-77926504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45E3-BD1B-43C1-9C6B-65E1E0F9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7F515-0FFF-415C-BDB2-EDD9482595A9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Winuser</cp:lastModifiedBy>
  <dcterms:modified xsi:type="dcterms:W3CDTF">2005-01-18T17:23:24Z</dcterms:modified>
  <cp:revision>13</cp:revision>
  <dc:subject/>
  <dc:title>Εισαγωγικές έννοιες πληροφορικής, χρήση Η/Υ και γραφικά περιβάλλοντα επικοινωνίας</dc:title>
</cp:coreProperties>
</file>