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EDBB-8466-46FF-ABA2-43AC1A2F5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D9BD-BDBE-446F-8D31-13C8520C7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9E8-4049-4221-BD1D-54B206544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32BC-E67C-4B50-BE25-7D6C6B158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F1D7-048B-4BAF-9811-A183F414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8F6F-BD46-4262-9E95-403624D1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70F-BFC8-444F-8DF3-F2F7D6B6D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2671-01F4-49AB-88FB-3DE26EF9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9D99-2995-4557-BA17-2B27961A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0898-B1BB-4146-8436-D5CBCCC24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648-AB50-4EE4-A1BE-EA51DC2F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00DF-9B04-486C-B157-8E543817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7E9F-3426-43C3-9235-DC1CFC87166F}" type="slidenum">
              <a:rPr b="0" lang="el-G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58920" y="1700280"/>
            <a:ext cx="6913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Εισαγωγικές έννοιες πληροφορικής,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l-GR" sz="4000" spc="-1" strike="noStrike">
                <a:solidFill>
                  <a:srgbClr val="000000"/>
                </a:solidFill>
                <a:latin typeface="Arial"/>
              </a:rPr>
              <a:t>χρήση Η/Υ και γραφικά περιβάλλοντα επικοινωνία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92504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Times New Roman"/>
              </a:rPr>
              <a:t>Δεδομένα και Πληροφορίε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533520" y="2924280"/>
            <a:ext cx="8076960" cy="1009080"/>
            <a:chOff x="533520" y="2924280"/>
            <a:chExt cx="8076960" cy="1009080"/>
          </a:xfrm>
        </p:grpSpPr>
        <p:sp>
          <p:nvSpPr>
            <p:cNvPr id="44" name=""/>
            <p:cNvSpPr/>
            <p:nvPr/>
          </p:nvSpPr>
          <p:spPr>
            <a:xfrm>
              <a:off x="533520" y="2924280"/>
              <a:ext cx="1904760" cy="990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ΔΕΔΟΜΕΝΑ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ΙΣ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42900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Επεξεργασία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553080" y="2981160"/>
              <a:ext cx="2057400" cy="95220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60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1800" spc="-1" strike="noStrike">
                  <a:solidFill>
                    <a:srgbClr val="ffffff"/>
                  </a:solidFill>
                  <a:latin typeface="Arial"/>
                </a:rPr>
                <a:t>ΠΛΗΡΟΦΟΡΙΕΣ</a:t>
              </a:r>
              <a:r>
                <a:rPr b="1" lang="el-G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l-GR" sz="2000" spc="-1" strike="noStrike">
                  <a:solidFill>
                    <a:srgbClr val="ffffff"/>
                  </a:solidFill>
                  <a:latin typeface="Arial"/>
                </a:rPr>
                <a:t>ΕΞΟΔΟ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51460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38680" y="3305160"/>
              <a:ext cx="852480" cy="302760"/>
            </a:xfrm>
            <a:custGeom>
              <a:avLst/>
              <a:gdLst>
                <a:gd name="textAreaLeft" fmla="*/ 133200 w 852480"/>
                <a:gd name="textAreaRight" fmla="*/ 701640 w 852480"/>
                <a:gd name="textAreaTop" fmla="*/ 75600 h 302760"/>
                <a:gd name="textAreaBottom" fmla="*/ 227160 h 302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3950" y="5400"/>
                  </a:lnTo>
                  <a:lnTo>
                    <a:pt x="13950" y="0"/>
                  </a:lnTo>
                  <a:lnTo>
                    <a:pt x="21600" y="10800"/>
                  </a:lnTo>
                  <a:lnTo>
                    <a:pt x="13950" y="21600"/>
                  </a:lnTo>
                  <a:lnTo>
                    <a:pt x="1395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19T17:13:45Z</dcterms:created>
  <dc:creator>..</dc:creator>
  <dc:description/>
  <dc:language>en-US</dc:language>
  <cp:lastModifiedBy>christak</cp:lastModifiedBy>
  <dcterms:modified xsi:type="dcterms:W3CDTF">2003-09-15T12:00:59Z</dcterms:modified>
  <cp:revision>13</cp:revision>
  <dc:subject/>
  <dc:title>Εισαγωγικές έννοιες πληροφορικής, χρήση Η/Υ και γραφικά περιβάλλοντα επικοινωνίας</dc:title>
</cp:coreProperties>
</file>