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F00A-F8B7-4C73-AD09-A931EFF2C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661E-06AB-475E-AD29-49E84003D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5A79-35D6-4E90-B060-B392EF6D1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EE19-5D17-4807-8373-FE20D9737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6F31-2679-4B2E-B586-331424B27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F1E2-E79B-4B0F-9A7F-2FA35D288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12A9-6834-496B-9913-EA95715D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596B4-AE7A-4276-B0B0-1CBD35C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B3DD-752B-4ABF-964A-D91FF24A1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83C-AD6C-4E29-A01B-913B8CDC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FF91-2725-4D86-9FFB-3E3209DC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3AB4-E09B-4120-B258-71833ED3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443DB-0E0E-41D8-B817-52B5222D9138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2692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9999"/>
                </a:solidFill>
                <a:latin typeface="Arial"/>
              </a:rPr>
              <a:t>ΕΚΠΑΙΔΕΥΤΙΚΟ ΛΟΓΙΣΜΙΚ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32000" y="1915920"/>
            <a:ext cx="6400800" cy="122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cc00"/>
                </a:solidFill>
                <a:latin typeface="Arial"/>
              </a:rPr>
              <a:t>Πρώτη γνωριμία με διαθέσιμο εκπαιδευτικό λογισμικ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3573360"/>
            <a:ext cx="6400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… </a:t>
            </a:r>
            <a:r>
              <a:rPr b="1" lang="el-GR" sz="4400" spc="-1" strike="noStrike">
                <a:solidFill>
                  <a:srgbClr val="333399"/>
                </a:solidFill>
                <a:latin typeface="Arial"/>
              </a:rPr>
              <a:t>Διαπιστώσεις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 ραγδαία εξέλιξη της Τεχνολογίας επιδρά στην κοινωνική πραγματικότητα , άρα και στην Εκπαίδευ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Στοιχειοθετείται η ανάγκη  επαναπροσδιορισμού του παραδοσιακού μοντέλου διδασκαλίας με τη δημιουργική αξιοποίηση των δυνατοτήτων των Νέων Τεχνολογιώ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Σύμφωνα με διεθνείς έρευνες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0920" y="6165720"/>
            <a:ext cx="85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816200"/>
            <a:ext cx="84344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9900"/>
                </a:solidFill>
                <a:latin typeface="Arial"/>
              </a:rPr>
              <a:t>Η χρήση των Νέων Τεχνολογιών στην εκπαίδευ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Παρέχει στο μαθητή πρόσβαση σε πλούσιες πηγές πληροφοριών και εκπαιδευτικού υλικού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Διεγείρει το ενδιαφέρον του μαθητ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Ενισχύει την αυτοπεποίθηση του μαθητή στη διαδικασία μάθηση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ινητοποιεί τους αδύνατους μαθητέ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101080" y="6308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050560" y="188640"/>
            <a:ext cx="676908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Οι έρευνες όμως δείχνουν επίσης ότι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Οι Νέες Τεχνολογίες συμβάλλουν πραγματικά στη μάθηση μόνο όταν χρησιμοποιούνται μέσα από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τάλληλα σχεδιασμένες δραστηριότητ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και με σαφώ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καθορισμένους στόχου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6237360"/>
            <a:ext cx="7920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ηγ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ational Council for Educational Technology (NCET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ΒΑΣΙΚΕΣ ΔΕΞΙΟΤΗΤΕ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5013000"/>
            <a:ext cx="403848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Και τώρα τι;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11280" y="1916280"/>
            <a:ext cx="21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27280" y="270828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27640" y="321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56360" y="3500280"/>
            <a:ext cx="27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OWER 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6360" y="407664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721080"/>
            <a:ext cx="80647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17200" y="345960"/>
            <a:ext cx="785988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Είδη Εκπαιδευτικού Λογισμικο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196640"/>
            <a:ext cx="7894440" cy="49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Μεταξύ άλλων 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κγύμν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Σύνολο δοκιμασιών για εξάσκηση και αξιολόγηση του μαθητ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αρουσία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Παρουσίαση της διδακτέας ύλης με χρήση πολυμέσ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προσομοίωση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Δημιουργί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αναπαράστασης ή μοντέλου ενός πραγματικού φαινομένου στην οθόν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Λογισμικό επίλυσης προβλήματος: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Επίλυση προβλήματος με δυνατότητα παραμετροποίησής του και αναπαράστασης της λύσ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φαρμογή εικονικής πραγματικότητ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Εκπαιδευτικά παιχνίδ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christak</cp:lastModifiedBy>
  <dcterms:modified xsi:type="dcterms:W3CDTF">2003-09-15T12:54:00Z</dcterms:modified>
  <cp:revision>75</cp:revision>
  <dc:subject/>
  <dc:title>Τίτλος ενότητας</dc:title>
</cp:coreProperties>
</file>