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CBFC-C09C-42FC-B8AA-8DD232884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4178-BFB7-4354-9090-07798403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CD064-E6A9-4587-8539-C22B44AA8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9302-D7DC-4A6C-AA66-F50DBCE07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F61D2-47E5-46F5-9F65-80028DEA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FBD3-EB81-4B80-943A-F5D0A89D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7AC7-659B-4F92-A409-DE75F3123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8919-0245-4704-9402-F46B90F10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74D1-9E8B-497C-9416-68D32929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4F86-586E-48DB-805D-78F8513D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458D1-3FCC-400E-B492-A11A4A43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4FD4-2F97-46F5-8624-93F71ED2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05B-4D9A-4660-90A6-E0FF76EADDE8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246-41B4-492A-A85A-D89EE5D907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08Z</dcterms:modified>
  <cp:revision>3</cp:revision>
  <dc:subject/>
  <dc:title>Slide 1</dc:title>
</cp:coreProperties>
</file>