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3ECEB-57D4-4114-B730-6DFCC9ED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BAF9-07CD-4214-ABD9-AED5C2F209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0E126-DDF5-4725-8DD3-CA81D2D07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E5E5-1E0C-424D-A650-7E76CE5E1F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6FEE-510A-4784-9907-F2F8C609C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A9B0E-45A3-4BD6-B0C4-B2142D6C0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6688-F5EF-445D-A93C-EA58CD785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FBD0-ACA4-46ED-B285-B545265B2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DDF5-96ED-49B4-BD99-B50A6C50B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636F-DED4-451D-9100-531DB50F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9FABE-F7D4-41B3-A376-66EECF271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2289-5D22-4971-A9D3-08CC14B9E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4920"/>
            <a:ext cx="32482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33E0-4244-4913-89B0-9962D47EDB87}" type="slidenum">
              <a:rPr b="1" lang="en-US" sz="3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340000" cy="2279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411280" y="3068640"/>
            <a:ext cx="43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ΕΚΠΑΙΔΕΥΤΙΚΟ ΛΟΓΙΣΜΙΚ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Διαφάνεια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B90F-4064-4063-9481-ECA72E1070E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1T13:05:45Z</dcterms:created>
  <dc:creator>christak</dc:creator>
  <dc:description/>
  <dc:language>en-US</dc:language>
  <cp:lastModifiedBy>1</cp:lastModifiedBy>
  <dcterms:modified xsi:type="dcterms:W3CDTF">2005-01-13T13:41:22Z</dcterms:modified>
  <cp:revision>4</cp:revision>
  <dc:subject/>
  <dc:title>Slide 1</dc:title>
</cp:coreProperties>
</file>