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BD92-3C08-4B60-B877-374CA5407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378F-655E-4847-AC25-1291543C0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7512-1322-40BC-8B22-3B5862FFF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EB83-8735-4AE3-ACD8-39CBAC107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FBCE-E4F5-446F-84B5-A3EDA210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5C696-BA5D-4B6E-8BF9-5E0AA9F5B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86DA-EFBE-4747-993B-731757703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6F9B-68FC-41FC-8700-22A5D5831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4F77-A0EF-40D9-BE68-66D39D4A8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C810-74DB-4CDB-B84C-7B6C0769C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A88C-4AFF-4FD3-AA3A-A6C7FFAB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AB9B-836D-43E5-9E10-775B7E368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A514-8EB6-4A4D-A6AB-E70ADB12F8CB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17Z</dcterms:modified>
  <cp:revision>2</cp:revision>
  <dc:subject/>
  <dc:title>Slide 1</dc:title>
</cp:coreProperties>
</file>