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8697-C5D6-4979-AE88-F9DF42488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B2A9-1CA9-455D-BC06-0913C904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AF6D-96A4-4365-B3A4-3265F917B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EDDE1-78E0-4BB5-9BFF-D6D6F6280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266-3B64-44A9-B02F-171376A39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2CB2A-B2DF-4BA3-848A-AFD97A1CC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020C-62D4-486F-8FD6-2895DD7F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EC29A-5AC1-46B6-9F51-3B083AB3B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3936-58A5-4541-A2DA-B0783EB8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A228-CFBD-4EE4-B580-485FDEC0B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11DF-3D08-468F-B4B6-1B03A06D8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A0DD-9669-48CF-8EB5-3B8E9FA2C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3BF40-BE47-4672-B5AA-B93E7AC07E97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12:39Z</dcterms:modified>
  <cp:revision>3</cp:revision>
  <dc:subject/>
  <dc:title>Slide 1</dc:title>
</cp:coreProperties>
</file>