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A3DC-FD3D-419A-BE0A-56C48BBA0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704C-070D-4947-8746-49D80C895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9959-3437-492E-9F05-FA0F895A4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47EA-9ABC-4146-91D9-BD38AA1E8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602D-AE43-456E-BF2E-C9D341A77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007B-0120-485B-9904-DB1934624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E727-9CF8-4FA4-AA42-F75EE972E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231F-EA3F-43FC-8FB5-52E65B508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D062-8C99-4768-90C6-F9DB57DB8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8AA8-998D-4680-A4F8-0D88C94C1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9E81-D8C0-45BF-A096-061B1BEF5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1DDC-B708-45A9-BD99-9173A6262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DCC64-6FD9-475A-A929-E55E3EBEB331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39Z</dcterms:modified>
  <cp:revision>3</cp:revision>
  <dc:subject/>
  <dc:title>Slide 1</dc:title>
</cp:coreProperties>
</file>