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C421-EC39-4D1B-BAD6-85DE686DC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F447-6BA0-4EEB-AF27-53940F64B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2CE3-372A-4BC6-B953-6F2F51C1E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CE56-09D9-4532-B875-C3E105184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6777-7D8A-46C7-8880-A7A0E5C07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9E12-809C-4975-9AD5-8ECA1A23D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1DC4-0823-4FDD-AEA6-AD365E1D5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A8C5-E962-43D6-B426-096DDE492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7821-95F5-4AED-B20D-3557EC44F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E65F-8E30-4A00-965E-07225B276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2217-34D2-4D7A-A5CB-8E4BC451B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8B8F-27D7-4B53-8BF7-ECA3FDF97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613D5-1A8A-4810-BC49-1AC6CC229983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17Z</dcterms:modified>
  <cp:revision>2</cp:revision>
  <dc:subject/>
  <dc:title>Slide 1</dc:title>
</cp:coreProperties>
</file>