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98DB5-E9FA-4AD3-B8AF-BB26EC1EE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81FA0-3317-4D0D-A7C3-F8D609C15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2B685-FCF6-4F46-B24E-460BA694D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BC211-C7A2-43A0-BF5B-DC95854A4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BA24C-FBB6-4CC4-8E86-D4DC522FB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A1856-5075-40F2-ACD5-04E5E9B09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3A5A1-1FCE-4F02-9E13-3D4BCA851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3F4E3-DBE2-42CA-8B0E-CF25D8152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1171E-B464-42CC-8C0E-E317FB562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325A9-6A24-4C8D-B99C-E03D71F4D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A3B75-E812-4781-9B91-3B03DD770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37605-EFCF-4BE1-9EC4-9EAE52131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EAC47-C36C-4C0A-BFE7-CF92F77DBB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052640"/>
            <a:ext cx="77058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9T15:18:39Z</dcterms:modified>
  <cp:revision>5</cp:revision>
  <dc:subject/>
  <dc:title>Slide 1</dc:title>
</cp:coreProperties>
</file>