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EF8FA-FE75-49A4-829F-96E069DA0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A80BB-C8D0-489E-8C42-E64C93EC0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75263-14B4-4A94-A75C-45DC58475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024E1-9489-48BE-99AA-6ED6EAEA0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6BDA8-1395-4575-89A7-4E9CA58F8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48F68-AAF4-47AB-89FA-9AF871FB0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32A46-9644-445E-A163-E3928420F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761D1-C02E-49F7-8831-8C2422B0E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D45BB-5E38-41A1-9547-9DBE6F76B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9ADDE-7188-4E0B-ACA4-D24FAEB62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BF626-7DAE-4945-A2A4-914D33890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1C540-180D-484A-BD40-6B8BB9E57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4920"/>
            <a:ext cx="3248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F897B-D735-4971-B7A2-943964F3F064}" type="slidenum">
              <a:rPr b="1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40000" cy="2279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Διαφάνει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15EBF-416C-4E9D-93FF-6C10A77977E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13:05:45Z</dcterms:created>
  <dc:creator>christak</dc:creator>
  <dc:description/>
  <dc:language>en-US</dc:language>
  <cp:lastModifiedBy>1</cp:lastModifiedBy>
  <dcterms:modified xsi:type="dcterms:W3CDTF">2005-01-13T13:41:08Z</dcterms:modified>
  <cp:revision>3</cp:revision>
  <dc:subject/>
  <dc:title>Slide 1</dc:title>
</cp:coreProperties>
</file>