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D595D-75AE-4F11-BE2D-7522AD840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37D44-A462-4163-885C-B910352E2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C1794-E9A5-435D-9AF8-865411ECA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3117F-81FE-4800-9A78-9C92C9902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116EB-E56C-466B-8F5B-8EA2B5EE0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B3971-3FD8-42D9-9386-79410AD87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45F82-DD41-4F6F-AA44-8E6BA4952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2BA62-33AA-46A6-8414-62C9865A6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A454D-4414-4400-BECF-86A81323E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A601B-7E56-4C7B-B376-D8D84F755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AE8B6-C2B2-4BDE-A721-635E058D6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4D876-4287-4FED-9A3B-D4ADA6C9C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6BA87-A86C-49D0-A829-7B50F3F294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052640"/>
            <a:ext cx="77058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9T15:18:39Z</dcterms:modified>
  <cp:revision>5</cp:revision>
  <dc:subject/>
  <dc:title>Slide 1</dc:title>
</cp:coreProperties>
</file>