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E40C7-82E8-4DCD-B24A-E10D1EE32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98985-EAFF-4931-8006-EAE2DC9D4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9E114-3E74-48F7-8AD2-663D621F6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9406D-0779-4155-8613-E3AD725F2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D656F-8D2C-447F-87EF-187279199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2D722-E6F7-4AE9-9910-0637BD375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8F51A-DD65-4118-A6FE-019FA53D7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66190-98F0-4D4F-BE3A-04EF82417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1C95B-87F2-4661-99B3-0583E4EEB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6E9AE-27ED-485F-9309-D0214179E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F3FD8-6DA0-4145-A568-78F1AAB34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074D9-4C65-4280-B282-A30289A52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4920"/>
            <a:ext cx="3248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2822E-3BE2-455B-98D5-A9F11C9D046E}" type="slidenum">
              <a:rPr b="1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40000" cy="2279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Διαφάνει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2DC7A-D8FC-4793-9164-DE7A2DDAD2F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13:05:45Z</dcterms:created>
  <dc:creator>christak</dc:creator>
  <dc:description/>
  <dc:language>en-US</dc:language>
  <cp:lastModifiedBy>1</cp:lastModifiedBy>
  <dcterms:modified xsi:type="dcterms:W3CDTF">2005-01-13T13:41:08Z</dcterms:modified>
  <cp:revision>3</cp:revision>
  <dc:subject/>
  <dc:title>Slide 1</dc:title>
</cp:coreProperties>
</file>