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A59E9-5573-4A85-B151-0768C4BD8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B407D-873B-4D52-925F-77A65CDE8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4F718-C497-4BB2-8E09-69928E4AD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CDE95-A020-4317-A749-B866F8325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2BBA2-A5CE-4A86-8064-2A0C21979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C15E3-412A-4945-974F-162902EDC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D35A5-CCDE-491A-8B36-B478B0FE1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C4D2F-A27B-45E3-850A-5BD932895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E4ABF-5D26-4265-934A-5141288FD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79932-A08C-4316-9F72-8C2B305E3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AD18D-A765-430C-9201-5076482E1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01E53-38B8-461F-BEA6-EFC29AE82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D70B5-E0C7-41EC-93A4-527F99587B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052640"/>
            <a:ext cx="77058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9T15:18:39Z</dcterms:modified>
  <cp:revision>5</cp:revision>
  <dc:subject/>
  <dc:title>Slide 1</dc:title>
</cp:coreProperties>
</file>