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9648-9F97-4372-BDAB-55B3FB414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B58D-E6D5-409B-B18F-FBED0F485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5A45-E446-4237-B760-145106993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6BC4-6DB5-404F-80D8-9E32A0295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6498-ECB1-44ED-83B1-7ABEEB38E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ED3D-56EF-4393-9E97-74B8A0CAA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CBF5-FC0D-467D-883D-F7ED24F98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8647-CC63-4A1D-82D1-1EE386116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796B-426A-412F-9429-99B8D6A35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FC23-691B-4855-910B-DF0B40ACE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110F-E24A-4D2C-A27E-CF49FC4A4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154F-9772-4744-95BE-2B1751595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5A0C9-8EDA-4452-A81C-0B4812A99478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411280" y="306864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ΕΚΠΑΙΔΕΥΤΙΚΟ ΛΟΓΙΣΜΙΚ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81DE-A27F-485C-ACB3-40C45DD1EAB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22Z</dcterms:modified>
  <cp:revision>4</cp:revision>
  <dc:subject/>
  <dc:title>Slide 1</dc:title>
</cp:coreProperties>
</file>