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21F3B-87AE-4D10-84CA-3EE5210B2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4F2A5-B142-4692-99AA-09C312DCC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DAE81-5264-4E26-A147-DA00713E6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8795D-91B9-44A2-B71E-91F0A8C13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384C9-D36A-4ED0-9395-57503D1F2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3317A-28EB-416B-9D26-2A7E63A29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E6CF6-25A3-4A75-88C3-545CEDBD6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9D4A9-FAD7-49F9-8CF6-5656DDCCB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3B8BB-FE02-40E8-BBD9-41BDA7FA0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7A954-43EB-4084-8C2D-5B8AE8185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CEA52-6C38-4E28-A703-586421567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5E4C4-B8BA-4466-816C-A5BBCBA7F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77E50-76E4-4E60-AF7A-ED07BF09D4F1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12:17Z</dcterms:modified>
  <cp:revision>2</cp:revision>
  <dc:subject/>
  <dc:title>Slide 1</dc:title>
</cp:coreProperties>
</file>