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34BF2-BC5B-4AC9-BC0C-D0EAD47E6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554A4-E9EE-45AF-8AB6-0691CCB51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DBAA2-B249-4223-95C9-877CA3295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C0E8E-E963-4BCE-96E2-6CCD0763B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7FF87-5177-4E94-AA3E-E098D3D67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AD60E-A482-4339-A8F5-37041E9A1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17239-E9EF-4644-97AB-70D796942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C4848-6B2C-473A-A5C6-66F365AC6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92B84-58FC-4973-A4BF-C1A201E48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E4429-61FC-4C9D-B0B9-03348563B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368DE-9A30-4BC2-875B-C31C1F6D4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FE786-771A-49FA-9519-8BCB6FC4C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12D4B-18EC-442D-A084-A7EE244AF9AD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1700280"/>
            <a:ext cx="691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Εισαγωγικές έννοιες πληροφορικής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χρήση Η/Υ και γραφικά περιβάλλοντα επικοινωνία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Δεδομένα και Πληροφορίε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33520" y="2924280"/>
            <a:ext cx="8076960" cy="1009080"/>
            <a:chOff x="533520" y="2924280"/>
            <a:chExt cx="8076960" cy="1009080"/>
          </a:xfrm>
        </p:grpSpPr>
        <p:sp>
          <p:nvSpPr>
            <p:cNvPr id="44" name=""/>
            <p:cNvSpPr/>
            <p:nvPr/>
          </p:nvSpPr>
          <p:spPr>
            <a:xfrm>
              <a:off x="533520" y="2924280"/>
              <a:ext cx="1904760" cy="99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ΔΕΔΟΜΕΝ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ΙΣ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42900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πεξεργασί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Arial"/>
                </a:rPr>
                <a:t>ΠΛΗΡΟΦΟΡΙΕΣ</a:t>
              </a:r>
              <a:r>
                <a:rPr b="1" lang="el-G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l-GR" sz="2000" spc="-1" strike="noStrike">
                  <a:solidFill>
                    <a:srgbClr val="ffffff"/>
                  </a:solidFill>
                  <a:latin typeface="Arial"/>
                </a:rPr>
                <a:t>ΕΞ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1460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3868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9T17:13:45Z</dcterms:created>
  <dc:creator>..</dc:creator>
  <dc:description/>
  <dc:language>en-US</dc:language>
  <cp:lastModifiedBy>Winuser</cp:lastModifiedBy>
  <dcterms:modified xsi:type="dcterms:W3CDTF">2005-01-18T17:23:24Z</dcterms:modified>
  <cp:revision>13</cp:revision>
  <dc:subject/>
  <dc:title>Εισαγωγικές έννοιες πληροφορικής, χρήση Η/Υ και γραφικά περιβάλλοντα επικοινωνίας</dc:title>
</cp:coreProperties>
</file>