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910A3-07E2-4103-9EFE-27607A822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7392-942C-4504-B087-951A150DB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C085-923C-457B-8166-B6F78A1E4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D3A-1FAE-4793-BD31-69DBDF6BC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08363-5A5D-4337-9A3B-1914F509F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79ECF-6E41-48B5-A90E-E6AA43CB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CD280-A664-4F8B-9397-D32A18EE7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C3BC-D8BC-4B06-B739-4D9F6A8D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969A-BB56-40D0-B214-04B66F5F1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885E-AE4A-412D-BA48-B8BDB23B2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FC72-EDD5-4996-97A9-FEC92C22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7B9B-0EEF-4CD8-84BE-A8892C104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51EAD-DE6C-42D2-B010-1E0B4D44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3EDE5-5867-4B95-B271-9FA5FE5F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A2700-12E2-416D-A3DB-D996DD62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9831A-0408-4A1B-A08D-54F208F37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DB55B-0CBC-42CC-B33A-6D7181CA5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4DAD20-58C0-4FF1-9A4D-B8106FB5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86E1F49-59BC-4E2E-AD6F-663A0A7B7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11497D1-7165-4094-8192-016A472C7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A61F2D-75CD-425C-B23E-CC40359A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439194-DD05-4216-9085-84F499BB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352A-88DC-4900-9BCB-D1317C491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DB43F7E-7455-494D-B684-6F942AC6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A28818-8152-46BD-A25B-006FA1139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617E1-9A95-40B9-84D0-31090C776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80452E-44EC-4371-9901-E7E34CDC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B2835-73C4-404D-9C9A-1EEDBD67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13C4E2-65C4-41C1-87EA-125BD9482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DDCC75-0A89-4CA5-992E-744E72871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361858-9E22-4B55-BE67-82189344E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0134B1-ACCA-4151-A1F6-E71EBAF67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81267-47FF-4D05-998E-5157854D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8D24-B21B-4A25-933D-74B0F0A48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32673-D431-4F3C-933B-A6C001FBD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BC0C36-186C-4A5B-A082-3BC4C1E91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51CF0-99A9-4A87-AEB6-2F3CF7483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E696F6-1A9C-44CA-A25B-A1959753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671680-78E3-40C0-AE8C-7895384D5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05F8ED-FBEE-41D1-BD10-E982563EF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7D05-5BF6-451E-8EBF-BBEE897E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B7F67-D5D4-4F33-BFEB-BFD55FCE9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AD241F-3C10-4D70-8F25-293D81E26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0863-84F2-415E-B5A7-4743CA379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3527-92C5-444F-AB52-D40945A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5CD4-243C-4B65-A070-B13F2BF8C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5A59-0908-4706-9C10-607F9E31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A2B-B28A-43C7-A9DB-5A1B6D84E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4A9F6-9E2D-484B-9805-B03DBE9C97E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42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4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84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8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3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80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44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50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51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52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53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54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55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56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57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58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59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60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61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62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63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64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65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66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67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68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46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49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88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94c6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DA55-3AF7-443D-B728-A7DCB0B8FE39}" type="slidenum">
              <a:rPr b="0" lang="el-GR" sz="1200" spc="-1" strike="noStrike">
                <a:solidFill>
                  <a:srgbClr val="94c6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83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80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81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82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77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78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79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74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75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76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46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47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48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49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50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51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52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53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54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55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58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59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61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62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63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64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65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66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67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68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69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70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45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56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57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60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931F6-A548-471D-929A-4FACEC40B820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2f35f"/>
            </a:gs>
            <a:gs pos="100000">
              <a:srgbClr val="80a33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43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86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83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84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85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80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81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82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77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78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79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45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46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47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48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49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50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5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59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60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61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62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63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64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65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66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67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68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69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70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71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72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73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93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74a5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0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71685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01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1f1f1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04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94c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4c600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94c600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94c6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e3d2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BB812-8D92-43ED-9F6B-A5CC8AAF787E}" type="slidenum">
              <a:rPr b="0" lang="el-GR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peri-grafis.com/spaw2/uploads/images/dali18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ΠΟΙΗΜΑΤΑ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6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424242"/>
                </a:solidFill>
                <a:latin typeface="Arial"/>
                <a:ea typeface="Arial"/>
              </a:rPr>
              <a:t>Τρία Χαϊκού, Γ. Σεφέρης</a:t>
            </a:r>
            <a:endParaRPr b="0" lang="en-US" sz="36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 </a:t>
            </a:r>
            <a:r>
              <a:rPr b="0" lang="en-US" sz="2800" spc="-1" strike="noStrike">
                <a:solidFill>
                  <a:srgbClr val="94c600"/>
                </a:solidFill>
                <a:latin typeface="Century Gothic"/>
              </a:rPr>
              <a:t>IA</a:t>
            </a: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39" name="Εικόνα 1" descr=""/>
          <p:cNvPicPr/>
          <p:nvPr/>
        </p:nvPicPr>
        <p:blipFill>
          <a:blip r:embed="rId1"/>
          <a:srcRect l="19494" t="0" r="19494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Πού να μαζεύ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α χίλια κομματάκια 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υ κάθε ανθρώπου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734000" y="2660400"/>
            <a:ext cx="3301920" cy="1463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94c600"/>
                </a:solidFill>
                <a:latin typeface="Century Gothic"/>
              </a:rPr>
              <a:t>ΙΕ΄</a:t>
            </a:r>
            <a:endParaRPr b="0" lang="en-US" sz="28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2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Βουλιάζει ο κόσμο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κρατήσου, θα σ' αφήσει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μόνο στον ήλιο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835280" y="4869000"/>
            <a:ext cx="5486400" cy="498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         </a:t>
            </a:r>
            <a:br>
              <a:rPr sz="2500"/>
            </a:br>
            <a:r>
              <a:rPr b="0" lang="el-GR" sz="2500" spc="-1" strike="noStrike">
                <a:solidFill>
                  <a:srgbClr val="94c600"/>
                </a:solidFill>
                <a:latin typeface="Century Gothic"/>
              </a:rPr>
              <a:t>ΙΣΤ΄</a:t>
            </a:r>
            <a:endParaRPr b="0" lang="en-US" sz="2500" spc="-1" strike="noStrike">
              <a:solidFill>
                <a:srgbClr val="94c600"/>
              </a:solidFill>
              <a:latin typeface="Century Gothic"/>
            </a:endParaRPr>
          </a:p>
        </p:txBody>
      </p:sp>
      <p:pic>
        <p:nvPicPr>
          <p:cNvPr id="345" name="Εικόνα 1" descr=""/>
          <p:cNvPicPr/>
          <p:nvPr/>
        </p:nvPicPr>
        <p:blipFill>
          <a:blip r:embed="rId1"/>
          <a:srcRect l="26972" t="0" r="26972" b="0"/>
          <a:stretch/>
        </p:blipFill>
        <p:spPr>
          <a:xfrm>
            <a:off x="1004760" y="693720"/>
            <a:ext cx="3359160" cy="54691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734000" y="4133880"/>
            <a:ext cx="330192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424242"/>
                </a:solidFill>
                <a:latin typeface="Century Gothic"/>
              </a:rPr>
              <a:t> </a:t>
            </a: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Γράφεις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το μελάνι λιγόστεψε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424242"/>
                </a:solidFill>
                <a:latin typeface="Century Gothic"/>
              </a:rPr>
              <a:t>η θάλασσα πληθαίνει.</a:t>
            </a: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3d2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900" spc="-1" strike="noStrike" u="sng">
                <a:solidFill>
                  <a:srgbClr val="e68200"/>
                </a:solidFill>
                <a:uFillTx/>
                <a:latin typeface="Calibri"/>
                <a:hlinkClick r:id="rId1"/>
              </a:rPr>
              <a:t>http://www.peri-grafis.com/spaw2/uploads/images/dali18.jpg</a:t>
            </a:r>
            <a:endParaRPr b="0" lang="en-US" sz="2900" spc="-1" strike="noStrike">
              <a:solidFill>
                <a:srgbClr val="94c6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23:45Z</dcterms:created>
  <dc:creator>ΓΙΩΡΓΟΣ   ΔΕΣΠΟΙΝΑ</dc:creator>
  <dc:description/>
  <dc:language>en-US</dc:language>
  <cp:lastModifiedBy>giorgos</cp:lastModifiedBy>
  <dcterms:modified xsi:type="dcterms:W3CDTF">2012-03-25T17:17:28Z</dcterms:modified>
  <cp:revision>3</cp:revision>
  <dc:subject/>
  <dc:title>(πίνακας του Νταλί)</dc:title>
</cp:coreProperties>
</file>