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6BB6-212F-434F-8B22-BEA47D9D3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C61C-F54F-40D3-9EC5-8FF230761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8A1D-E482-4163-BCD3-1E35F88EA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C010-2A76-4E24-A2D7-01F9B71D69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ADC-52B6-4389-BBA7-3B582331C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77A0-5744-461A-85F1-F459BA76F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94E1-8583-4C90-A55D-1D42B3B1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EE341-6CB1-4D74-9305-C17F139E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7016-06F7-4C48-A72F-896342DDE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A648-89C8-44E3-922A-D6F88194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EDFB1-17ED-477F-B26C-9980810D2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DD27-BEE7-46C6-B186-726E4D3E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8320" indent="-282600">
              <a:spcBef>
                <a:spcPts val="700"/>
              </a:spcBef>
              <a:buClr>
                <a:srgbClr val="0000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33640" indent="-22860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352520" indent="-182520">
              <a:spcBef>
                <a:spcPts val="700"/>
              </a:spcBef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544760" indent="-182520">
              <a:spcBef>
                <a:spcPts val="700"/>
              </a:spcBef>
              <a:buClr>
                <a:srgbClr val="000000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DC5ED-E74B-44FF-A592-199A86DC433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19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ιώνα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ίχα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ίνε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υρώπ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ολλέ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λλαγές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ιστήμης,τη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οινωνία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ι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δηγού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αθμιαία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στη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νατροπ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αθιερωμένων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αξιών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Τίτλος 1" descr=""/>
          <p:cNvPicPr/>
          <p:nvPr/>
        </p:nvPicPr>
        <p:blipFill>
          <a:blip r:embed="rId1"/>
          <a:stretch/>
        </p:blipFill>
        <p:spPr>
          <a:xfrm>
            <a:off x="469800" y="8568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Πνευμ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αστατικά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κινήματα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Διαφωτισμός,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Γαλλ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Ρομαντισμός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Βιομηχαν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,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Ρωσική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Επανάσταση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Η παραδοσιακ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οίη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νταποκρι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την παλιά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άξ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ραγμάτων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τ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παραπάν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λλαγέ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ενεργούν σ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ρόπο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ποί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άνθρωπο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αισθανότα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σχέσ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μ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το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κόσμ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επηρεάζου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ηλαδή την ευαισθησία το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700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Για να εκφράσει τη «διάλυση» ευαισθησίας του ανθρώπου, η ποίηση έπρεπε να βρει καινούριους εκφραστικούς τρόπου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Τίτλος 1" descr=""/>
          <p:cNvPicPr/>
          <p:nvPr/>
        </p:nvPicPr>
        <p:blipFill>
          <a:blip r:embed="rId1"/>
          <a:stretch/>
        </p:blipFill>
        <p:spPr>
          <a:xfrm>
            <a:off x="457200" y="96840"/>
            <a:ext cx="8229600" cy="17193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Το όνομα: άγνωστο, παρουσιαζόταν πρώτη φορά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ναι διφορούμενος: μπορεί να είναι ένας όρος της στιχουργικής,αλλὰ μπορεί και να σημαίνει μια βαθύτερη αλλαγή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Τίτλος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34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001"/>
              </a:spcBef>
              <a:buClr>
                <a:srgbClr val="000000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000000"/>
                </a:solidFill>
                <a:latin typeface="Arial"/>
              </a:rPr>
              <a:t>ο τίτλος είχε ασφαλώς το δεύτερο νόημα. Με τη λιγοσέλιδη ποιητικὴ συλλογή ερχόταν στη νέα ελληνική ποίηση μία αναπάντεχη αλλαγή, μια πραγματική «στροφή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Τίτλος 1" descr=""/>
          <p:cNvPicPr/>
          <p:nvPr/>
        </p:nvPicPr>
        <p:blipFill>
          <a:blip r:embed="rId1"/>
          <a:stretch/>
        </p:blipFill>
        <p:spPr>
          <a:xfrm>
            <a:off x="414360" y="96840"/>
            <a:ext cx="8400960" cy="17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8T09:13:27Z</dcterms:created>
  <dc:creator>ΓΙΩΡΓΟΣ   ΔΕΣΠΟΙΝΑ</dc:creator>
  <dc:description/>
  <dc:language>en-US</dc:language>
  <cp:lastModifiedBy>giorgos</cp:lastModifiedBy>
  <dcterms:modified xsi:type="dcterms:W3CDTF">2012-03-23T09:53:23Z</dcterms:modified>
  <cp:revision>11</cp:revision>
  <dc:subject/>
  <dc:title>ΗΓενιάτου’30 Aπό το19ο αιώνα, είχαν γίνει στην Ευρώπη πολλέςαλλαγές,που έχουν σχέση με την εξέλιξη της επιστήμης και τη δομή της κοινωνικής οργάνωσης και οδηγούν βαθμιαία στην ανατροπή των καθιερωμένων αξιών.</dc:title>
</cp:coreProperties>
</file>