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6B37C-7147-4C55-973E-59A764866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301C4-2FC4-432A-8593-A029E04F4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20F55-EF1E-409C-B019-7CDC7417C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10764-BBD3-4AB1-B419-1FA462946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C016B-EB8D-4E96-95A5-D9F35FD6A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C9D51-B875-41A9-A8D2-CC49B9090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E83B2-3D29-4CE8-A9D0-897E36562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345C5-80F1-4027-87F5-EB3ACE4C6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5799A-FDF5-4003-B012-09975DD1B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63C50-242E-44C9-8932-F666050F8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1A01D-F3F9-4BAC-A5FE-256247D9A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081D3-C035-4FD0-AD63-5BA0971DB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4920"/>
            <a:ext cx="3248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DA78D-7041-4FA7-925D-1B09BFF02ADD}" type="slidenum">
              <a:rPr b="1" lang="en-US" sz="3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340000" cy="2279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Διαφάνεια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A6F0A-04E3-4A84-AAB6-FC30C070817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1T13:05:45Z</dcterms:created>
  <dc:creator>christak</dc:creator>
  <dc:description/>
  <dc:language>en-US</dc:language>
  <cp:lastModifiedBy>1</cp:lastModifiedBy>
  <dcterms:modified xsi:type="dcterms:W3CDTF">2005-01-13T13:41:08Z</dcterms:modified>
  <cp:revision>3</cp:revision>
  <dc:subject/>
  <dc:title>Slide 1</dc:title>
</cp:coreProperties>
</file>