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AF1A-B6F2-4450-8B34-C2FC20D8B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78E2-0F50-4E90-91AF-EFEC374C1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9973-1554-4426-BCA0-07FE57BD8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F0C2-FD3F-4AD7-8623-A7568F035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C1C1-529F-4A4E-9B85-9DC0E681F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0CA0-BE57-4826-8EC8-729795B51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527B-1509-4EF7-9317-A043D7DD7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F474-2696-4AE2-A776-1F915B228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97C1-0AAA-4C2A-B6D3-922073C52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EC08-D518-4396-ACC0-16E4BACB3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D2F2-CA05-4401-8A47-463FF53E4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409A-254C-4E57-BA0F-0331251D7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0AC8D-9545-4649-9225-2772A72EB267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5E20-E821-4101-A376-929F0ED312C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08Z</dcterms:modified>
  <cp:revision>3</cp:revision>
  <dc:subject/>
  <dc:title>Slide 1</dc:title>
</cp:coreProperties>
</file>