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A072E-FBC9-40E6-9A74-885448AA4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4D657-21F2-491A-95D5-C39882725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7C7E5-AC38-4E36-A7BF-687C6D843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4F011-A3A2-4604-B4A2-77327C3EC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45668-B661-4108-B820-0F2639426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9493C-E8DD-4474-8D03-F58D3B5E2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C5DFF-EBB9-48A5-BA58-263DF9B1D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D3D33-71F3-4B7B-ABD9-533E253E1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08275-1724-45F4-957A-9886EEE0B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24AC4-71EB-48BF-8F2C-F771BE9DE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88C3C-5DF0-4608-95AD-6AEB5BD2C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61418-711D-4BC0-8435-35BA0B4EB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F1081-F08F-4E35-B4D7-E38534BDE381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53:53Z</dcterms:modified>
  <cp:revision>3</cp:revision>
  <dc:subject/>
  <dc:title>Slide 1</dc:title>
</cp:coreProperties>
</file>