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F7AF-405D-49FE-A29B-09ADB0F3F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8314-C50E-40D0-B12A-1577934CB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2322-7FC4-4DE0-BF78-53648C5B1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FE87-B3AF-4314-810E-03D300363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EB42-C5A2-449D-AF9A-C710E26FD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D03C-8EFB-408B-AB91-277CCC48C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0247-B5D5-4D2D-9BB5-9E028AC25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9663-D5D9-4310-8335-2529281D5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64FD-95E9-4F65-92E9-AB9B52C09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24D8-5777-4FAE-999A-1D72CC887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97CA-838B-4AE8-B32E-D53C325B2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7081-78D3-48DF-8C7F-0658CA92F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1A040-2AB0-4B7B-A9F7-775FDAA604E7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ΕΚΠΑΙΔΕΥΤΙΚΟ ΛΟΓΙΣΜΙΚ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32000" y="1915920"/>
            <a:ext cx="6400800" cy="12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Πρώτη γνωριμία με διαθέσιμο εκπαιδευτικό λογισμικ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76360" y="3573360"/>
            <a:ext cx="6400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… </a:t>
            </a:r>
            <a:r>
              <a:rPr b="1" lang="el-GR" sz="4400" spc="-1" strike="noStrike">
                <a:solidFill>
                  <a:srgbClr val="333399"/>
                </a:solidFill>
                <a:latin typeface="Arial"/>
              </a:rPr>
              <a:t>Διαπιστώσεις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ραγδαία εξέλιξη της Τεχνολογίας επιδρά στην κοινωνική πραγματικότητα , άρα και στην Εκπαίδευ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τοιχειοθετείται η ανάγκη  επαναπροσδιορισμού του παραδοσιακού μοντέλου διδασκαλίας με τη δημιουργική αξιοποίηση των δυνατοτήτων των Νέων Τεχνολογιώ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74072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Σύμφωνα με διεθνείς έρευνες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616572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1816200"/>
            <a:ext cx="8434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Η χρήση των Νέων Τεχνολογιών στην εκπαίδευση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Παρέχει στο μαθητή πρόσβαση σε πλούσιες πηγές πληροφοριών και εκπαιδευτικού υλικο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Διεγείρει το ενδιαφέρον του μαθητ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Ενισχύει την αυτοπεποίθηση του μαθητή στη διαδικασία μάθηση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ινητοποιεί τους αδύνατους μαθητέ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101080" y="6308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0560" y="188640"/>
            <a:ext cx="676908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Οι έρευνες όμως δείχνουν επίσης ότ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Οι Νέες Τεχνολογίες συμβάλλουν πραγματικά στη μάθηση μόνο όταν χρησιμοποιούνται μέσα απ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τάλληλα σχεδιασμένες δραστηριότητε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αι με σαφώ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θορισμένους στόχου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6237360"/>
            <a:ext cx="792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ΒΑΣΙΚΕΣ ΔΕΞΙΟΤΗΤΕ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5013000"/>
            <a:ext cx="403848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Και τώρα τι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191628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27280" y="27082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27640" y="321300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56360" y="35002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76360" y="407664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721080"/>
            <a:ext cx="806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17200" y="345960"/>
            <a:ext cx="785988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Είδη Εκπαιδευτικού Λογισμικο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280" y="1196640"/>
            <a:ext cx="789444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Μεταξύ άλλων 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κγύμν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Σύνολο δοκιμασιών για εξάσκηση και αξιολόγηση του μαθητ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αρουσί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Παρουσίαση της διδακτέας ύλης με χρήση πολυμέσ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ροσομοίω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Δημιουργί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αναπαράστασης ή μοντέλου ενός πραγματικού φαινομένου στην οθόν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πίλυσης προβλήματο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Επίλυση προβλήματος με δυνατότητα παραμετροποίησής του και αναπαράστασης της λύσ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φαρμογή εικονικής πραγματικότητ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κπαιδευτικά παιχνίδι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5T12:54:00Z</dcterms:modified>
  <cp:revision>75</cp:revision>
  <dc:subject/>
  <dc:title>Τίτλος ενότητας</dc:title>
</cp:coreProperties>
</file>