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96F2E-C4BD-425E-97F1-D04E406EE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AB79C-3383-4B11-9063-5DADF1BC3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99582-A1D9-4BEA-A164-390741DEC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7F336-2A15-4362-8FBA-CE878F705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88371-6C0D-4593-8148-6B459AB1D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E9E10-35C0-4C82-A104-615C76EE4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7296E-8AAC-4B8C-A994-7C3E35128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9D50C-00E6-47AE-B2F9-1DD247A77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C437C-413F-424A-A65D-D88DCE483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27437-4771-48C3-BA17-AE876DACE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A5208-6914-460E-9463-3814B7149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E2269-DE69-4D77-9E70-4841B2A41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EFE12-AC5C-4622-AC4F-0FB37E2C0244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Arial"/>
              </a:rPr>
              <a:t>ΕΚΠΑΙΔΕΥΤΙΚΟ ΛΟΓΙΣΜΙΚ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32000" y="1915920"/>
            <a:ext cx="6400800" cy="12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Arial"/>
              </a:rPr>
              <a:t>Πρώτη γνωριμία με διαθέσιμο εκπαιδευτικό λογισμικ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76360" y="3573360"/>
            <a:ext cx="64008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… </a:t>
            </a:r>
            <a:r>
              <a:rPr b="1" lang="el-GR" sz="4400" spc="-1" strike="noStrike">
                <a:solidFill>
                  <a:srgbClr val="333399"/>
                </a:solidFill>
                <a:latin typeface="Arial"/>
              </a:rPr>
              <a:t>Διαπιστώσεις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 ραγδαία εξέλιξη της Τεχνολογίας επιδρά στην κοινωνική πραγματικότητα , άρα και στην Εκπαίδευ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Στοιχειοθετείται η ανάγκη  επαναπροσδιορισμού του παραδοσιακού μοντέλου διδασκαλίας με τη δημιουργική αξιοποίηση των δυνατοτήτων των Νέων Τεχνολογιώ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740720" cy="15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Σύμφωνα με διεθνείς έρευνες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0920" y="6165720"/>
            <a:ext cx="85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ηγ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ational Council for Educational Technology (NCE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1816200"/>
            <a:ext cx="8434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9900"/>
                </a:solidFill>
                <a:latin typeface="Arial"/>
              </a:rPr>
              <a:t>Η χρήση των Νέων Τεχνολογιών στην εκπαίδευση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Παρέχει στο μαθητή πρόσβαση σε πλούσιες πηγές πληροφοριών και εκπαιδευτικού υλικού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Διεγείρει το ενδιαφέρον του μαθητ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Ενισχύει την αυτοπεποίθηση του μαθητή στη διαδικασία μάθηση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Κινητοποιεί τους αδύνατους μαθητέ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101080" y="630864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050560" y="188640"/>
            <a:ext cx="676908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Οι έρευνες όμως δείχνουν επίσης ότι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Οι Νέες Τεχνολογίες συμβάλλουν πραγματικά στη μάθηση μόνο όταν χρησιμοποιούνται μέσα απ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κατάλληλα σχεδιασμένες δραστηριότητε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και με σαφώ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καθορισμένους στόχου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6237360"/>
            <a:ext cx="7920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ηγ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ational Council for Educational Technology (NCE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ΒΑΣΙΚΕΣ ΔΕΞΙΟΤΗΤΕ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5013000"/>
            <a:ext cx="403848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Και τώρα τι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11280" y="1916280"/>
            <a:ext cx="21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627280" y="270828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427640" y="321300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C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56360" y="3500280"/>
            <a:ext cx="27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476360" y="4076640"/>
            <a:ext cx="388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721080"/>
            <a:ext cx="8064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17200" y="345960"/>
            <a:ext cx="785988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Είδη Εκπαιδευτικού Λογισμικο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71280" y="1196640"/>
            <a:ext cx="7894440" cy="49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Μεταξύ άλλων 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εκγύμνα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Σύνολο δοκιμασιών για εξάσκηση και αξιολόγηση του μαθητ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παρουσία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Παρουσίαση της διδακτέας ύλης με χρήση πολυμέσω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προσομοίω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Δημιουργί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αναπαράστασης ή μοντέλου ενός πραγματικού φαινομένου στην οθόν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επίλυσης προβλήματο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Επίλυση προβλήματος με δυνατότητα παραμετροποίησής του και αναπαράστασης της λύση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Εφαρμογή εικονικής πραγματικότητ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Εκπαιδευτικά παιχνίδι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christak</cp:lastModifiedBy>
  <dcterms:modified xsi:type="dcterms:W3CDTF">2003-09-15T12:54:00Z</dcterms:modified>
  <cp:revision>75</cp:revision>
  <dc:subject/>
  <dc:title>Τίτλος ενότητας</dc:title>
</cp:coreProperties>
</file>