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86208-E13D-4814-B23A-DD3ED8827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D0078-D32E-4BF7-AB03-EC39960EE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1D78A-FCE2-475A-891B-5714DE014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0B464-6830-4B23-9780-D35B70EF4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A09F5-83D1-479F-A169-9C515E462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00C1C-A120-451F-9A62-C671C2026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28D17-4AB8-4BD1-A187-7CFD3C845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8E2A5-9CB2-41DE-89D5-C6C9DE458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45AB7-9557-4419-948B-9095D9634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C1C26-BB24-4DF6-BA6D-E8206280C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8C509-A3A8-4AA2-B269-FD3193D9D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48C3E-8C36-45A5-934F-7F6E646A8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2F673-C10A-44BF-9037-9D9B8715AD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995640" y="404640"/>
            <a:ext cx="482436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009960" y="4876920"/>
          <a:ext cx="3124080" cy="166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09960" y="4876920"/>
                    <a:ext cx="3124080" cy="16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39640" y="119592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1</cp:lastModifiedBy>
  <dcterms:modified xsi:type="dcterms:W3CDTF">2005-01-13T14:06:40Z</dcterms:modified>
  <cp:revision>80</cp:revision>
  <dc:subject/>
  <dc:title>Τίτλος ενότητας</dc:title>
</cp:coreProperties>
</file>