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B849-8E9B-419D-A5DD-9AA447475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4C0A-9D92-4E1C-9E83-9F8532DA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827A-92D9-4144-8C6F-F65A7B270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060D-720B-4D9C-AC78-678285738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76F0-AD0A-4D00-BF99-44DDA870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69D8-D69B-4165-8549-FF87AD30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D3CC-EE4F-4B32-8096-E728D1D4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5EE9-60CB-4650-8521-EF90ABA8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02C7-BFF6-46EA-8C78-E670CF71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6AC0-E685-4486-A09B-2E101B9C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4F38-601D-45A4-BF65-1DF40808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03A8-D029-458A-8C73-619E51AB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5285-2DCC-4487-8A53-25569547A9BC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19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ιώνα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χα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ίνε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υρώπ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λέ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λλαγέ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ιστήμης,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δηγού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θμιαί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ατροπ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θιερωμέν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ξιώ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Τίτλος 1" descr=""/>
          <p:cNvPicPr/>
          <p:nvPr/>
        </p:nvPicPr>
        <p:blipFill>
          <a:blip r:embed="rId1"/>
          <a:stretch/>
        </p:blipFill>
        <p:spPr>
          <a:xfrm>
            <a:off x="4698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νευμ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αστ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ινήματα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ιαφωτισμός,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αλλ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Ρομαντισμός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ιομηχαν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Ρωσ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 παραδοσιακ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ίη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ταποκρι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ην παλι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άξ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ραγμάτω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τ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αραπάν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λλαγέ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ενεργούν σ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ρόπο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ποί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άνθρωπ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ισθα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κόσμ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ηρεάζου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ηλαδή την ευαισθησία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 να εκφράσει τη «διάλυση» ευαισθησίας του ανθρώπου, η ποίηση έπρεπε να βρει καινούριους εκφραστικούς τρόπου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όνομα: άγνωστο, παρουσιαζόταν πρώτη φορά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ναι διφορούμενος: μπορεί να είναι ένας όρος της στιχουργικής,αλλὰ μπορεί και να σημαίνει μια βαθύτερη αλλαγή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χε ασφαλώς το δεύτερο νόημα. Με τη λιγοσέλιδη ποιητικὴ συλλογή ερχόταν στη νέα ελληνική ποίηση μία αναπάντεχη αλλαγή, μια πραγματική «στροφή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Τίτλος 1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13:27Z</dcterms:created>
  <dc:creator>ΓΙΩΡΓΟΣ   ΔΕΣΠΟΙΝΑ</dc:creator>
  <dc:description/>
  <dc:language>en-US</dc:language>
  <cp:lastModifiedBy>giorgos</cp:lastModifiedBy>
  <dcterms:modified xsi:type="dcterms:W3CDTF">2012-03-23T09:53:23Z</dcterms:modified>
  <cp:revision>11</cp:revision>
  <dc:subject/>
  <dc:title>ΗΓενιάτου’30 Aπό το19ο αιώνα, είχαν γίνει στην Ευρώπη πολλέςαλλαγές,που έχουν σχέση με την εξέλιξη της επιστήμης και τη δομή της κοινωνικής οργάνωσης και οδηγούν βαθμιαία στην ανατροπή των καθιερωμένων αξιών.</dc:title>
</cp:coreProperties>
</file>