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50913-ED1B-43D2-B0B1-CF12B6FDA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341D9-91BE-4499-8393-640E92D02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A5168-10EB-4FA4-B673-C2DD137AD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59256-0A39-4639-BFD9-1AA6DBF6C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73329-5ABD-4BAD-BEA6-3DFD3E8B0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F544A-F5C8-4AEA-8AA4-C6E7D8EC6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25EE9-77EF-420D-9DBE-0364D1EFA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30EAE-8D14-47B5-9A55-FE7ECD3FB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4033B-BEED-409B-B16B-2CE156690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350E5-11E8-4C18-A66D-628A69BA4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6B2BD-BEA9-4A5E-B164-A14C44E2D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49408-07CC-4335-AC0D-6B35D2CAA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1ACA0-17BF-4D92-8650-FFB58EF61F24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53:53Z</dcterms:modified>
  <cp:revision>3</cp:revision>
  <dc:subject/>
  <dc:title>Slide 1</dc:title>
</cp:coreProperties>
</file>