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6D3FE-E84E-43DA-BCFD-B84621BBF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83A2F-763F-4FE3-A72B-91F393683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80AF8-EF18-4D1A-A8C1-7023B374C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A4350-47AD-4451-BA70-D2B99C8EB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6B375-425D-4C8F-99BB-2B94833E3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2A05B-7B09-436E-92B3-187D29308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51F11-B4B1-4A4E-AC59-922086D32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80461-FC31-4C9A-9486-6DB2685E7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3F044-2916-4D89-8337-20D24A09B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8EFED-6404-4C98-B738-E247D1167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2F005-D5A9-4D4A-B1A2-B419E03D2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9A9B0-7D14-4602-8921-673DAA2E6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4920"/>
            <a:ext cx="3248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08BB0-A4CA-4C63-89E9-C818873F908E}" type="slidenum">
              <a:rPr b="1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40000" cy="2279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411280" y="3068640"/>
            <a:ext cx="43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ΕΚΠΑΙΔΕΥΤΙΚΟ ΛΟΓΙΣΜΙΚ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Διαφάνει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67E01-51FA-4A89-9B14-13DB4CE4425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13:05:45Z</dcterms:created>
  <dc:creator>christak</dc:creator>
  <dc:description/>
  <dc:language>en-US</dc:language>
  <cp:lastModifiedBy>1</cp:lastModifiedBy>
  <dcterms:modified xsi:type="dcterms:W3CDTF">2005-01-13T13:41:22Z</dcterms:modified>
  <cp:revision>4</cp:revision>
  <dc:subject/>
  <dc:title>Slide 1</dc:title>
</cp:coreProperties>
</file>