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F93BF-2DFC-4826-8615-3DD6ABFF5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98101-8961-4BC1-85CD-F17CF69FB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02923-8545-4398-A306-5F11EDA8A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0AF5A-BD27-48DF-A3E7-4FA3F4065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ED87A-F657-4873-957F-FE983187D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31D08-5C04-4023-877B-7CE830307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2191C-3152-45DB-B311-5BE1A6D98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929F2-D19A-4F53-B15F-DE6E321DB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C2B31-2EA1-448B-98B4-B7353988E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E3061-F8CF-4A18-AE22-DACD26FBA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AFC6B-98B3-41FC-8610-C863094D8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7324C-455D-4F4A-A03A-90418C47F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AB74B-FB4B-4BDD-B73D-C8A43D5CA7A1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12:17Z</dcterms:modified>
  <cp:revision>2</cp:revision>
  <dc:subject/>
  <dc:title>Slide 1</dc:title>
</cp:coreProperties>
</file>