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44EA3-A5B3-4609-92C3-B33E5ACAE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14E69-029E-4E45-AA95-0D1B1A4D4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41B24-C0AF-49AA-A148-3CA3BA388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6F6B5-77E7-4412-ACCC-F87D69D3C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7A574-925C-4869-AFAC-46B084D3D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0374C-667D-479C-AE51-DAAA3F730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D9ACF-3117-4B61-8D90-38332E945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A5835-791A-4569-B78E-95C2F89DB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A43B0-7BD3-47E0-8544-EDBBE6AEE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00373-3F18-4540-AA25-AA68A2F5C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C7AB6-A208-42C5-A4BB-4F0692570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04DFF-90F2-4AFE-BA9E-3326F9DFD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06C16-86CF-49FF-A5D2-77CB9A4B2482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12:39Z</dcterms:modified>
  <cp:revision>3</cp:revision>
  <dc:subject/>
  <dc:title>Slide 1</dc:title>
</cp:coreProperties>
</file>