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A896-C5A6-4AAE-92AC-85519AD37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AE36-665B-4D13-9275-F5F10D45D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B807-F600-478C-A0E9-D1ADD7D4F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F389-33BB-492B-81FF-5C6E5EC45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7C87-A7B6-44B0-B111-9F9D4F490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677A-23FF-492F-81DE-914E37214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178D-FF54-444D-A322-3BE535311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CBAD-0DEB-4BF2-B710-5E284E48B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2A84-7F30-4943-9191-02EB4FBE3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07A5-8351-4129-9301-DBB64669D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1D4B-5BE3-41A2-BE7D-CA29DA8E2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E4E7-D655-4076-8F58-DDC25248F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533F5-4C52-4475-A85A-F0514AD64722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christak</cp:lastModifiedBy>
  <dcterms:modified xsi:type="dcterms:W3CDTF">2003-09-15T12:00:59Z</dcterms:modified>
  <cp:revision>13</cp:revision>
  <dc:subject/>
  <dc:title>Εισαγωγικές έννοιες πληροφορικής, χρήση Η/Υ και γραφικά περιβάλλοντα επικοινωνίας</dc:title>
</cp:coreProperties>
</file>