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B8D4-E88A-450F-90F5-91A1568BE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7C05-503A-453A-8FDD-147C0AB62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0241-ACEF-4F5B-845E-28A4A432C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8A71-B2E9-4B13-A736-9D98CCB29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0962-D4FB-4917-977E-90EFEBEE3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E1C1-BBDD-46DB-B0A8-0A7D86362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E8B0-0C51-4D74-A1C2-175158E47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204C-9C37-4C1E-A29B-A0D85BE24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237E-C259-489E-B5C2-A8403C89B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048D-48CC-47CF-88F3-B9056B813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5578-1F99-4070-A327-053666E80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F467-B2EE-4471-87D6-6C60DD3BA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33A02-E414-4053-9F62-DD1DE70F71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05264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9T15:18:39Z</dcterms:modified>
  <cp:revision>5</cp:revision>
  <dc:subject/>
  <dc:title>Slide 1</dc:title>
</cp:coreProperties>
</file>