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AACD-E544-4F29-9659-AE5D6C5A6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6F2D-C6AB-4F74-ACCC-9D1358A3A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F67F-D4BC-44B2-A5D4-422EBD6B8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C13B-A72B-4295-B58D-10B8F3D39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AD07-34F2-4DD8-ACC7-BF4A78397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0060-00D1-451E-BB5E-E09F7C6A9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69C9-C2AA-4E4D-BD24-46F8A83D2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08C0-9FF5-40DA-A1D7-0B91B53C0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004A-0533-4154-8D1D-B2D6B31B0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6BBA-BCBA-44D2-A98E-3B7FB00D3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EE62-1D13-41BE-8E11-EB9C1585D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B962-54A6-437C-AC39-4D20F0D87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049F7-1633-4B7B-9A1E-3764EAFE867D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39Z</dcterms:modified>
  <cp:revision>3</cp:revision>
  <dc:subject/>
  <dc:title>Slide 1</dc:title>
</cp:coreProperties>
</file>