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A19F1-4991-4BF7-A2DD-B573B83FD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716B1-81F5-4B6E-A76C-D584242BC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9656A-04A2-4547-BB66-D5C12F132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2E142-05CF-4F2A-9FE4-E63279C3B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7D97F-9837-42AA-A2F8-A9ADCEADE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54662-DBDB-49B6-849E-0F2708B12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D9C0F-C68A-47A6-8252-D92E01AAB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51B17-D8BB-4128-98E9-A7CF94EE3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7331E-6B69-4DFB-BFF9-DEA9BF555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E9ABC-B870-4677-8551-2CBAC3B44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816FA-6E24-4F85-A662-213602233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2A18D-4C5D-47EC-BE94-61114C71A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A6F19-34B8-47CA-9E93-F10DFBF4522A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Arial"/>
              </a:rPr>
              <a:t>ΕΚΠΑΙΔΕΥΤΙΚΟ ΛΟΓΙΣΜΙΚ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32000" y="1915920"/>
            <a:ext cx="6400800" cy="12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Arial"/>
              </a:rPr>
              <a:t>Πρώτη γνωριμία με διαθέσιμο εκπαιδευτικό λογισμικ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76360" y="3573360"/>
            <a:ext cx="64008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… </a:t>
            </a:r>
            <a:r>
              <a:rPr b="1" lang="el-GR" sz="4400" spc="-1" strike="noStrike">
                <a:solidFill>
                  <a:srgbClr val="333399"/>
                </a:solidFill>
                <a:latin typeface="Arial"/>
              </a:rPr>
              <a:t>Διαπιστώσεις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 ραγδαία εξέλιξη της Τεχνολογίας επιδρά στην κοινωνική πραγματικότητα , άρα και στην Εκπαίδευ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Στοιχειοθετείται η ανάγκη  επαναπροσδιορισμού του παραδοσιακού μοντέλου διδασκαλίας με τη δημιουργική αξιοποίηση των δυνατοτήτων των Νέων Τεχνολογιώ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740720" cy="15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Σύμφωνα με διεθνείς έρευνες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0920" y="6165720"/>
            <a:ext cx="85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ηγ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ational Council for Educational Technology (NCE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1816200"/>
            <a:ext cx="8434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9900"/>
                </a:solidFill>
                <a:latin typeface="Arial"/>
              </a:rPr>
              <a:t>Η χρήση των Νέων Τεχνολογιών στην εκπαίδευση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Παρέχει στο μαθητή πρόσβαση σε πλούσιες πηγές πληροφοριών και εκπαιδευτικού υλικού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Διεγείρει το ενδιαφέρον του μαθητ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Ενισχύει την αυτοπεποίθηση του μαθητή στη διαδικασία μάθηση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Κινητοποιεί τους αδύνατους μαθητέ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101080" y="630864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050560" y="188640"/>
            <a:ext cx="676908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Οι έρευνες όμως δείχνουν επίσης ότι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Οι Νέες Τεχνολογίες συμβάλλουν πραγματικά στη μάθηση μόνο όταν χρησιμοποιούνται μέσα απ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κατάλληλα σχεδιασμένες δραστηριότητε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και με σαφώ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καθορισμένους στόχου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6237360"/>
            <a:ext cx="7920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ηγ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ational Council for Educational Technology (NCE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ΒΑΣΙΚΕΣ ΔΕΞΙΟΤΗΤΕ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5013000"/>
            <a:ext cx="403848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Και τώρα τι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11280" y="1916280"/>
            <a:ext cx="21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627280" y="270828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427640" y="321300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C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56360" y="3500280"/>
            <a:ext cx="27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476360" y="4076640"/>
            <a:ext cx="388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721080"/>
            <a:ext cx="8064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17200" y="345960"/>
            <a:ext cx="785988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Είδη Εκπαιδευτικού Λογισμικο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71280" y="1196640"/>
            <a:ext cx="7894440" cy="49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Μεταξύ άλλων 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εκγύμνα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Σύνολο δοκιμασιών για εξάσκηση και αξιολόγηση του μαθητ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παρουσία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Παρουσίαση της διδακτέας ύλης με χρήση πολυμέσω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προσομοίω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Δημιουργί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αναπαράστασης ή μοντέλου ενός πραγματικού φαινομένου στην οθόν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επίλυσης προβλήματο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Επίλυση προβλήματος με δυνατότητα παραμετροποίησής του και αναπαράστασης της λύση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Εφαρμογή εικονικής πραγματικότητ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Εκπαιδευτικά παιχνίδι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christak</cp:lastModifiedBy>
  <dcterms:modified xsi:type="dcterms:W3CDTF">2003-09-15T12:54:00Z</dcterms:modified>
  <cp:revision>75</cp:revision>
  <dc:subject/>
  <dc:title>Τίτλος ενότητας</dc:title>
</cp:coreProperties>
</file>