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11A1C-E724-4F87-8DEA-B296528B1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B9A29-C528-450C-8961-066BE21F5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C1A45-E859-43C0-858B-6E7170570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645F9-B4C7-4206-935A-9B4980BA6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4CA01-FCC3-4593-A493-9881DE8D6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6F842-857F-495E-89C1-6F4776176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E68FE-F336-485A-99D8-B0D03145E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AE8BF-0D86-4DD5-AA0C-B65C78333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F02B7-1ADE-447A-BE92-860171F35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565B3-1AFE-4A7A-B3A1-7EE0BA9F0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0F3E0-27A2-4647-A498-4C3327971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71C66-8DF2-4118-9670-FFC7DD855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57C64-1758-4730-AB8D-1847E2CF94C2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12:39Z</dcterms:modified>
  <cp:revision>3</cp:revision>
  <dc:subject/>
  <dc:title>Slide 1</dc:title>
</cp:coreProperties>
</file>