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E2080-9119-44B4-B56C-8B461294E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95979-D645-4008-A13B-75ED7715D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3AF4A-FA37-4ADD-8D08-915713C5C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C0A7A-64D3-491E-A3F4-1C131E2D4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66D8D-CA4C-47E2-98BE-F4EAE70BE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B7DD5-ACBE-4C24-897A-F74BAE6E5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63C1F-E5E8-4D4B-853F-651CF3C35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CBD8A-8EB9-4D7E-BC0F-52FC36536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532BF-C5B6-4684-95C8-22A118C98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FB225-3205-47E1-B52C-416B723EF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177E8-0820-4113-B447-95DF19FC4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D8E09-B776-4950-B095-0D9CF9640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9C0AC-A61F-4E4D-A6A2-AC24212B2F63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58920" y="1700280"/>
            <a:ext cx="6913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Εισαγωγικές έννοιες πληροφορικής,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χρήση Η/Υ και γραφικά περιβάλλοντα επικοινωνία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9250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Δεδομένα και Πληροφορίε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533520" y="2924280"/>
            <a:ext cx="8076960" cy="1009080"/>
            <a:chOff x="533520" y="2924280"/>
            <a:chExt cx="8076960" cy="1009080"/>
          </a:xfrm>
        </p:grpSpPr>
        <p:sp>
          <p:nvSpPr>
            <p:cNvPr id="44" name=""/>
            <p:cNvSpPr/>
            <p:nvPr/>
          </p:nvSpPr>
          <p:spPr>
            <a:xfrm>
              <a:off x="533520" y="2924280"/>
              <a:ext cx="1904760" cy="990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ΔΕΔΟΜΕΝ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ΙΣ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42900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πεξεργασία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55308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ffffff"/>
                  </a:solidFill>
                  <a:latin typeface="Arial"/>
                </a:rPr>
                <a:t>ΠΛΗΡΟΦΟΡΙΕΣ</a:t>
              </a:r>
              <a:r>
                <a:rPr b="1" lang="el-G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l-GR" sz="2000" spc="-1" strike="noStrike">
                  <a:solidFill>
                    <a:srgbClr val="ffffff"/>
                  </a:solidFill>
                  <a:latin typeface="Arial"/>
                </a:rPr>
                <a:t>ΕΞ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1460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3868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9T17:13:45Z</dcterms:created>
  <dc:creator>..</dc:creator>
  <dc:description/>
  <dc:language>en-US</dc:language>
  <cp:lastModifiedBy>christak</cp:lastModifiedBy>
  <dcterms:modified xsi:type="dcterms:W3CDTF">2003-09-15T12:00:59Z</dcterms:modified>
  <cp:revision>13</cp:revision>
  <dc:subject/>
  <dc:title>Εισαγωγικές έννοιες πληροφορικής, χρήση Η/Υ και γραφικά περιβάλλοντα επικοινωνίας</dc:title>
</cp:coreProperties>
</file>