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B8BF2-58D2-4D4B-BFD7-7BDB33756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69273-EA0D-4B39-B5B4-9E67F8B6D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61F04-C63A-4ED9-9E8B-15EE7C0D0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77821-230C-4FDB-8B9C-182002AAD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3DE62-9834-4B37-9F5C-9EEA94F76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48395-3D95-47C9-AC4A-0A0A3CAF2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41C7A-84B4-4A42-B922-0060E076E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412F2-30FD-48FF-9CCA-2287CBF03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EC7C6-851C-442D-A658-39CEBA397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C72CF-525D-4CB8-835B-B894F8552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F08E5-3C78-4734-9D64-81BAC930A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5DBC9-5C6D-4F97-832F-CE86CD8E4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CD724-0D2A-4E45-824B-0F3E8B1E06D2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12:39Z</dcterms:modified>
  <cp:revision>3</cp:revision>
  <dc:subject/>
  <dc:title>Slide 1</dc:title>
</cp:coreProperties>
</file>